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670-F980-41EB-AAAC-4D66D74F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EF8-9FEC-4E4F-A79E-508BC2CD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FBF-F4EE-47DB-9E22-523A7853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30C-1439-43BD-BE57-EF596754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D83-2CFE-4EF7-9CEE-E81C25EE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C53-C085-4F8E-B89C-C11722C5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7C5-DF92-40A1-A422-95349C54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F8B-D42F-4673-8E9B-A6E3B2DC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A1B6-CE8E-4E6D-BA1E-6B8FB714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EBE-DEB7-4A4E-8CD9-AEF280B6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3FB-7519-4BE1-9CD7-7A03B2E6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A60B-A6DC-4F18-A5D3-7AEE2C31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72AC-9C77-45C6-AB2B-A092BE541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onnie Campbell</cp:lastModifiedBy>
  <dcterms:modified xsi:type="dcterms:W3CDTF">2002-05-31T22:09:32Z</dcterms:modified>
  <cp:revision>16</cp:revision>
  <dc:subject/>
  <dc:title>No Slide Title</dc:title>
</cp:coreProperties>
</file>