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62F-05FD-4792-9768-D5FB9DCC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09C-7F4F-4D72-9007-13AED600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8156-F273-4B49-BB01-6286CD84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1D3C-CC68-484F-89ED-EF8F2477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FE1-F4F4-46A5-989C-01FB77F0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26C-028D-430A-8C4C-A8C9070B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E899-05DD-4C0F-8E89-F1CF36E3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22BF-6A55-4958-9A4D-7A0AB8BC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06BF-A42B-44FC-82F8-879CB584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BF7-97BE-4CBB-B7AA-0427AB21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087-4B94-486E-ABD5-593B7F8E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A46-E0C1-4072-8C62-16C2798D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063F-CB27-44FE-BF1A-46F730D4F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ho will Surviv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expression is not a monomial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5(-y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m-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8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2x(-3y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is equivalent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(3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• 8- 6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÷ 2)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a. 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b. 9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. 1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d.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water level of a local lake is normally 0 feet above sea level. In a flood, the water level rose 4 feet above normal. A month later, the water level had gone down 5 feet. Which integer best represents the water level at this tim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. -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. -1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. 4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.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lve the equation for x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6x – 4x + 57 = 87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-7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-1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1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72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hadijah and Autumn went to lunch. Their check came to $42. They want to leave a 15% tip for their waiter. How much will the total be, including tip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$6.3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$43.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$48.3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$57.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is the quotient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42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and -7x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7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7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-6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-6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product of (3x – 1) and (x + 4) is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6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+ 14x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f Fals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value of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divided by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is x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ich solution is correct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5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2a +5) – (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 2a -5)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 -4a +6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4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10 + 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4a + 10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etermine the next three terms of the patter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, 7, 11, 17, 25, 35,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47, 59, 71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47, 61, 71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47, 61, 77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47, 59, 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expressi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(3x-5) + 2(x-3) can be simplified to…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11x + 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8x- 8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11x – 2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8x -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submarine started at a depth of 150 feet below sea level and descended 355 feet. What is the new depth of the submarine?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205 fee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505 feet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0 fee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370 f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is the slope of the li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   y = -3x + 9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-3x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-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specific type of polynomial is 3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- 2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monomi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binomial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constan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tri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Comic Sans MS"/>
              </a:rPr>
              <a:t>   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Find the sum of (7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5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)  and  (3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- 2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).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a. 13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b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7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c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3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d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3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  22 is 20% of 110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ctor the expression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2n + 1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(n-1)(n+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(n-1)(n-1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(n-2)(n+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n+2)(n-1)</a:t>
            </a:r>
            <a:r>
              <a:rPr b="1" lang="en-US" sz="4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coefficient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expression x + 5 is...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0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x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expressi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6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+ 12x + 18 in factored form is…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6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6(x²+2x +18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6(x²+2x +3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6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is 22% of 175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38.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38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795.4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79.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³•3 simplifies to 9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ctor the express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x²-22x + 21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(x -1)(x-2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(x+1)(x+2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(x+3)(x-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(x-3)(x-7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f Fals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divide a polynomial by a monomial you must divide the base and add the expon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5(x+2) = 40, what is the value of x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4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6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8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10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20:23:47Z</dcterms:created>
  <dc:creator>Karen Samis</dc:creator>
  <dc:description/>
  <dc:language>en-US</dc:language>
  <cp:lastModifiedBy>Karen Samis</cp:lastModifiedBy>
  <dcterms:modified xsi:type="dcterms:W3CDTF">2008-11-04T02:18:45Z</dcterms:modified>
  <cp:revision>19</cp:revision>
  <dc:subject/>
  <dc:title>The expression  3(3x-5) + 2(x-3) can be simplified to….</dc:title>
</cp:coreProperties>
</file>