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C4F-133F-4AC3-AFAF-4EBFE4AC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7FB-4A10-44EA-8A6E-F485650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F96-3EDD-4D80-9779-DA550E12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865-BC20-4CC3-9E26-3CABA002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B68-6F90-4B90-823F-B575241E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E7C-7D0B-4E32-9F68-A4950F94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3B2-9342-4D8D-8776-A78DC3F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5F9F-7F2B-4CF1-B290-8E23720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42A-28B4-4177-ACBE-D0B1B85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BCE-DD09-434D-B062-030AD358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8AB-AC29-414A-87D8-1136F843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D94-B048-4B49-AA13-5C19DD3D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29E6-C872-4FCB-B651-75BECE74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o will Surviv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expression is not a monomial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(-y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m-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k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2x(-3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ch is equivalent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(3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• 8- 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÷ 2)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. 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b. 9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. 13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.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water level of a local lake is normally 0 feet above sea level. In a flood, the water level rose 4 feet above normal. A month later, the water level had gone down 5 feet. Which integer best represents the water level at this tim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. -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. -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.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the equation for x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6x – 4x + 57 = 87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7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-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2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hadijah and Autumn went to lunch. Their check came to $42. They want to leave a 15% tip for their waiter. How much will the total be, including tip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 $6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 $43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 $48.3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 $57.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the quotient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42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and -7x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-6x</a:t>
            </a:r>
            <a:r>
              <a:rPr b="1" lang="en-US" sz="4400" spc="-1" strike="noStrike" baseline="50000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product of (3x – 1) and (x + 4) is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4x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value of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ivided by 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s x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ich solution is correct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5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a +5) – (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 2a -5)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 -4a +6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+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10 + 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4a + 10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etermine the next three terms of the patt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, 7, 11, 17, 25, 35,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47, 59, 7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47, 61, 71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47, 61, 7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47, 59, 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(3x-5) + 2(x-3) can be simplified to…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11x + 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8x-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11x – 21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8x -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submarine started at a depth of 150 feet below sea level and descended 355 feet. What is the new depth of the submarine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205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505 feet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0 fee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370 f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the slope of the lin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   y = -3x + 9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-3x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-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specific type of polynomial is 3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- 2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monom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binomial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consta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tr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Comic Sans MS"/>
              </a:rPr>
              <a:t>  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Find the sum of (7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5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  and  (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- 2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).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. 13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b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7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c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d. 10x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+ 13xy + 3y</a:t>
            </a:r>
            <a:r>
              <a:rPr b="1" lang="es-E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  22 is 20% of 110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n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2n + 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n-1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n-1)(n-1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n-2)(n+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n+2)(n-1)</a:t>
            </a:r>
            <a:r>
              <a:rPr b="1" lang="en-US" sz="4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coefficient in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expression x + 5 is...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x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express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6x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+ 12x + 18 in factored form is…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(x²+2x +18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6(x²+2x +3)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6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is 22% of 175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38.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3850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795.45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79.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rue or Fals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3³•3 simplifies to 9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 the express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 x²-22x + 21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. (x -1)(x-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. (x+1)(x+21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. (x+3)(x-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. (x-3)(x-7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ue of Fals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o divide a polynomial by a monomial you must divide the base and add the expon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f 5(x+2) = 40, what is the value of x?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. 4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. 6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. 8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. 10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20:23:47Z</dcterms:created>
  <dc:creator>Karen Samis</dc:creator>
  <dc:description/>
  <dc:language>en-US</dc:language>
  <cp:lastModifiedBy>Karen Samis</cp:lastModifiedBy>
  <dcterms:modified xsi:type="dcterms:W3CDTF">2008-11-04T02:18:45Z</dcterms:modified>
  <cp:revision>19</cp:revision>
  <dc:subject/>
  <dc:title>The expression  3(3x-5) + 2(x-3) can be simplified to….</dc:title>
</cp:coreProperties>
</file>