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A147-320F-438F-9338-742AC4E7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CF26-11DB-4E17-8C35-71C56170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248D-E622-4893-9E8E-5AFA93BC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7EBB-B922-437F-A570-420BEE81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C5D6-243C-4F01-9E6A-F812B389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3602-6759-4CB7-930E-74E9EA6A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B27B-616B-4DAF-BB5C-DD7535FE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9237-3FD6-4E1F-B9FD-A63AD948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4D4B-8EC8-4D10-BCCC-CF043AF7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405A-A16A-4C42-96E8-785747E9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60B8-12CF-4EAB-A274-2676B2FC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B91D-DBED-41B6-BF9E-55519827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5745-FA6B-4BB5-981B-D1484CFEA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ho will Surviv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ch expression is not a monomial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5(-y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m-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8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2x(-3y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ch is equivalent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(3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• 8- 6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÷ 2)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a. 3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b. 9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c. 13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d.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water level of a local lake is normally 0 feet above sea level. In a flood, the water level rose 4 feet above normal. A month later, the water level had gone down 5 feet. Which integer best represents the water level at this tim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. -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. -1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. 4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.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olve the equation for x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6x – 4x + 57 = 87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-7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-1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1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72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hadijah and Autumn went to lunch. Their check came to $42. They want to leave a 15% tip for their waiter. How much will the total be, including tip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$6.3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$43.5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$48.3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$57.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is the quotient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42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and -7xy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7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5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7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-6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5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-6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rue or Fals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product of (3x – 1) and (x + 4) is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6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+ 14x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ue of Fals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value of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divided by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is x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ich solution is correct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5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2a +5) – (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+ 2a -5)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 -4a +6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+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4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4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10 + 4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4a + 10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etermine the next three terms of the patter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, 7, 11, 17, 25, 35,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47, 59, 71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47, 61, 71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47, 61, 77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47, 59, 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expression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3(3x-5) + 2(x-3) can be simplified to…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11x + 1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8x- 8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11x – 21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8x -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submarine started at a depth of 150 feet below sea level and descended 355 feet. What is the new depth of the submarine?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205 fee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505 feet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0 fee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370 f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is the slope of the lin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    y = -3x + 9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-3x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3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-3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specific type of polynomial is 3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- 2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?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monomia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binomial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constan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tri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Comic Sans MS"/>
              </a:rPr>
              <a:t>   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Find the sum of (7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+ 5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)  and  (3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- 2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).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a. 13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b. 10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+ 7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c. 10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+ 3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d. 10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+ 3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ue or Fals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  22 is 20% of 110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actor the expression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2n + 1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(n-1)(n+1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(n-1)(n-1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(n-2)(n+1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n+2)(n-1)</a:t>
            </a:r>
            <a:r>
              <a:rPr b="1" lang="en-US" sz="4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coefficient in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expression x + 5 is...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5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0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x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expression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6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+ 12x + 18 in factored form is…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6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6(x²+2x +18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6(x²+2x +3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6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is 22% of 175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38.5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385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795.4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79.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rue or Fals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3³•3 simplifies to 9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actor the expressi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 x²-22x + 21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(x -1)(x-21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(x+1)(x+21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(x+3)(x-7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(x-3)(x-7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ue of Fals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o divide a polynomial by a monomial you must divide the base and add the expone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5(x+2) = 40, what is the value of x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4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6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8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10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20:23:47Z</dcterms:created>
  <dc:creator>Karen Samis</dc:creator>
  <dc:description/>
  <dc:language>en-US</dc:language>
  <cp:lastModifiedBy>Karen Samis</cp:lastModifiedBy>
  <dcterms:modified xsi:type="dcterms:W3CDTF">2008-11-04T02:18:45Z</dcterms:modified>
  <cp:revision>19</cp:revision>
  <dc:subject/>
  <dc:title>The expression  3(3x-5) + 2(x-3) can be simplified to….</dc:title>
</cp:coreProperties>
</file>