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image" Target="../media/image3.wmf"/><Relationship Id="rId5" Type="http://schemas.openxmlformats.org/officeDocument/2006/relationships/slide" Target=""/><Relationship Id="rId6" Type="http://schemas.openxmlformats.org/officeDocument/2006/relationships/image" Target="../media/image4.wmf"/><Relationship Id="rId7" Type="http://schemas.openxmlformats.org/officeDocument/2006/relationships/slide" Target=""/><Relationship Id="rId8" Type="http://schemas.openxmlformats.org/officeDocument/2006/relationships/image" Target="../media/image5.wmf"/><Relationship Id="rId9" Type="http://schemas.openxmlformats.org/officeDocument/2006/relationships/slide" Target=""/><Relationship Id="rId10" Type="http://schemas.openxmlformats.org/officeDocument/2006/relationships/image" Target="../media/image6.wmf"/><Relationship Id="rId11" Type="http://schemas.openxmlformats.org/officeDocument/2006/relationships/slide" Target=""/><Relationship Id="rId12" Type="http://schemas.openxmlformats.org/officeDocument/2006/relationships/image" Target="../media/image7.wmf"/><Relationship Id="rId13" Type="http://schemas.openxmlformats.org/officeDocument/2006/relationships/slide" Target=""/><Relationship Id="rId14" Type="http://schemas.openxmlformats.org/officeDocument/2006/relationships/image" Target="../media/image8.wmf"/><Relationship Id="rId15" Type="http://schemas.openxmlformats.org/officeDocument/2006/relationships/slide" Target=""/><Relationship Id="rId16" Type="http://schemas.openxmlformats.org/officeDocument/2006/relationships/image" Target="../media/image9.wmf"/><Relationship Id="rId17" Type="http://schemas.openxmlformats.org/officeDocument/2006/relationships/slide" Target=""/><Relationship Id="rId18" Type="http://schemas.openxmlformats.org/officeDocument/2006/relationships/image" Target="../media/image10.wmf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image" Target="../media/image3.wmf"/><Relationship Id="rId5" Type="http://schemas.openxmlformats.org/officeDocument/2006/relationships/slide" Target=""/><Relationship Id="rId6" Type="http://schemas.openxmlformats.org/officeDocument/2006/relationships/image" Target="../media/image4.wmf"/><Relationship Id="rId7" Type="http://schemas.openxmlformats.org/officeDocument/2006/relationships/slide" Target=""/><Relationship Id="rId8" Type="http://schemas.openxmlformats.org/officeDocument/2006/relationships/image" Target="../media/image5.wmf"/><Relationship Id="rId9" Type="http://schemas.openxmlformats.org/officeDocument/2006/relationships/slide" Target=""/><Relationship Id="rId10" Type="http://schemas.openxmlformats.org/officeDocument/2006/relationships/image" Target="../media/image6.wmf"/><Relationship Id="rId11" Type="http://schemas.openxmlformats.org/officeDocument/2006/relationships/slide" Target=""/><Relationship Id="rId12" Type="http://schemas.openxmlformats.org/officeDocument/2006/relationships/image" Target="../media/image7.wmf"/><Relationship Id="rId13" Type="http://schemas.openxmlformats.org/officeDocument/2006/relationships/slide" Target=""/><Relationship Id="rId14" Type="http://schemas.openxmlformats.org/officeDocument/2006/relationships/image" Target="../media/image8.wmf"/><Relationship Id="rId15" Type="http://schemas.openxmlformats.org/officeDocument/2006/relationships/slide" Target=""/><Relationship Id="rId16" Type="http://schemas.openxmlformats.org/officeDocument/2006/relationships/image" Target="../media/image9.wmf"/><Relationship Id="rId17" Type="http://schemas.openxmlformats.org/officeDocument/2006/relationships/slide" Target=""/><Relationship Id="rId18" Type="http://schemas.openxmlformats.org/officeDocument/2006/relationships/image" Target="../media/image10.wmf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 txBox="1"/>
          <p:nvPr/>
        </p:nvSpPr>
        <p:spPr>
          <a:xfrm>
            <a:off x="958680" y="2757600"/>
            <a:ext cx="6989760" cy="2317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cc6600"/>
                    </a:gs>
                    <a:gs pos="100000">
                      <a:srgbClr val="ffff00"/>
                    </a:gs>
                  </a:gsLst>
                  <a:lin ang="13500000"/>
                </a:gradFill>
                <a:latin typeface="Impact"/>
              </a:rPr>
              <a:t>Dr. Freddie Thomas Squar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cc6600"/>
                  </a:gs>
                  <a:gs pos="100000">
                    <a:srgbClr val="ffff0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37" name=""/>
          <p:cNvSpPr/>
          <p:nvPr/>
        </p:nvSpPr>
        <p:spPr>
          <a:xfrm>
            <a:off x="2179440" y="1166760"/>
            <a:ext cx="4771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Welcome to..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833040" y="5638680"/>
            <a:ext cx="7815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A Game of X’s and O’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7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886040" y="217440"/>
            <a:ext cx="4956120" cy="5202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220920" y="276120"/>
            <a:ext cx="2559240" cy="51436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903320" y="2819520"/>
            <a:ext cx="4883400" cy="2576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86040" y="217440"/>
            <a:ext cx="8175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75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935000" y="246240"/>
            <a:ext cx="4851720" cy="50781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60560" y="2747880"/>
            <a:ext cx="4791240" cy="2568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281400" y="484200"/>
            <a:ext cx="1747800" cy="2441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861160" y="246240"/>
            <a:ext cx="895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75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935000" y="246240"/>
            <a:ext cx="4851720" cy="50781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60560" y="2747880"/>
            <a:ext cx="4791240" cy="2568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281400" y="484200"/>
            <a:ext cx="1747800" cy="2441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861160" y="246240"/>
            <a:ext cx="895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75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963800" y="246240"/>
            <a:ext cx="4780080" cy="50432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359080" y="1143000"/>
            <a:ext cx="3960720" cy="22208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974960" y="2760840"/>
            <a:ext cx="4711680" cy="2498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89600" y="246240"/>
            <a:ext cx="8082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75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963800" y="246240"/>
            <a:ext cx="4780080" cy="50432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359080" y="1143000"/>
            <a:ext cx="3960720" cy="22208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974960" y="2760840"/>
            <a:ext cx="4711680" cy="2498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89600" y="246240"/>
            <a:ext cx="8082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75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990800" y="281160"/>
            <a:ext cx="4709880" cy="495612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000240" y="557280"/>
            <a:ext cx="2543400" cy="27334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036880" y="2711520"/>
            <a:ext cx="4655880" cy="252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43440" y="281160"/>
            <a:ext cx="9288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75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990800" y="281160"/>
            <a:ext cx="4709880" cy="495612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000240" y="557280"/>
            <a:ext cx="2543400" cy="27334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036880" y="2711520"/>
            <a:ext cx="4655880" cy="252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43440" y="281160"/>
            <a:ext cx="9288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75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023920" y="291960"/>
            <a:ext cx="4638960" cy="4921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962440" y="387360"/>
            <a:ext cx="3350880" cy="47196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025720" y="2668680"/>
            <a:ext cx="4640040" cy="2508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23920" y="291960"/>
            <a:ext cx="7891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75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023920" y="291960"/>
            <a:ext cx="4638960" cy="4921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962440" y="387360"/>
            <a:ext cx="3350880" cy="47196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025720" y="2668680"/>
            <a:ext cx="4640040" cy="2508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23920" y="291960"/>
            <a:ext cx="7891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75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052720" y="309600"/>
            <a:ext cx="4586040" cy="486720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043000" y="2689200"/>
            <a:ext cx="455796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544840" y="1476360"/>
            <a:ext cx="3767040" cy="12272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052720" y="309600"/>
            <a:ext cx="8287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75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oad &amp; Sami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" name=""/>
          <p:cNvSpPr/>
          <p:nvPr/>
        </p:nvSpPr>
        <p:spPr>
          <a:xfrm>
            <a:off x="3630600" y="171756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321920" y="5851440"/>
            <a:ext cx="6901560" cy="1006560"/>
            <a:chOff x="1321920" y="5851440"/>
            <a:chExt cx="6901560" cy="1006560"/>
          </a:xfrm>
        </p:grpSpPr>
        <p:sp>
          <p:nvSpPr>
            <p:cNvPr id="44" name=""/>
            <p:cNvSpPr/>
            <p:nvPr/>
          </p:nvSpPr>
          <p:spPr>
            <a:xfrm>
              <a:off x="13219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8 - All rights Reserv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895480" y="646128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052720" y="309600"/>
            <a:ext cx="4586040" cy="486720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043000" y="2689200"/>
            <a:ext cx="455796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544840" y="1476360"/>
            <a:ext cx="3767040" cy="12272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2052720" y="309600"/>
            <a:ext cx="8287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75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114640" y="326880"/>
            <a:ext cx="4567320" cy="4867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00240" y="2706840"/>
            <a:ext cx="453708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916440" y="326880"/>
            <a:ext cx="1297080" cy="24256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2114640" y="326880"/>
            <a:ext cx="841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75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114640" y="326880"/>
            <a:ext cx="4567320" cy="4867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100240" y="2706840"/>
            <a:ext cx="453708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916440" y="326880"/>
            <a:ext cx="1297080" cy="24256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114640" y="326880"/>
            <a:ext cx="841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75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85800" y="0"/>
            <a:ext cx="7647120" cy="6858000"/>
            <a:chOff x="685800" y="0"/>
            <a:chExt cx="7647120" cy="6858000"/>
          </a:xfrm>
        </p:grpSpPr>
        <p:sp>
          <p:nvSpPr>
            <p:cNvPr id="258" name=""/>
            <p:cNvSpPr txBox="1"/>
            <p:nvPr/>
          </p:nvSpPr>
          <p:spPr>
            <a:xfrm>
              <a:off x="685800" y="11430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2438280" y="137160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>
              <a:off x="4419720" y="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1828800" y="22860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4800600" y="48006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5943600" y="632448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6400800" y="411480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>
              <a:off x="4343400" y="632448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>
              <a:off x="7620120" y="579132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3048120" y="5410080"/>
              <a:ext cx="712800" cy="77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6248520" y="1219320"/>
              <a:ext cx="407880" cy="47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7467480" y="380880"/>
              <a:ext cx="86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270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ff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ff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685800" y="0"/>
            <a:ext cx="7647120" cy="6858000"/>
            <a:chOff x="685800" y="0"/>
            <a:chExt cx="7647120" cy="6858000"/>
          </a:xfrm>
        </p:grpSpPr>
        <p:sp>
          <p:nvSpPr>
            <p:cNvPr id="274" name=""/>
            <p:cNvSpPr txBox="1"/>
            <p:nvPr/>
          </p:nvSpPr>
          <p:spPr>
            <a:xfrm>
              <a:off x="685800" y="11430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2438280" y="137160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>
              <a:off x="4419720" y="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>
              <a:off x="1828800" y="22860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4800600" y="48006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5943600" y="632448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>
              <a:off x="6400800" y="411480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4343400" y="632448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>
              <a:off x="7620120" y="579132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3" name=""/>
            <p:cNvSpPr txBox="1"/>
            <p:nvPr/>
          </p:nvSpPr>
          <p:spPr>
            <a:xfrm>
              <a:off x="3048120" y="5410080"/>
              <a:ext cx="712800" cy="77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4" name=""/>
            <p:cNvSpPr txBox="1"/>
            <p:nvPr/>
          </p:nvSpPr>
          <p:spPr>
            <a:xfrm>
              <a:off x="6248520" y="1219320"/>
              <a:ext cx="407880" cy="47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>
              <a:off x="7467480" y="380880"/>
              <a:ext cx="86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286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ff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ff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95280" y="0"/>
            <a:ext cx="70056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95360" y="1147680"/>
            <a:ext cx="20685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18160" y="100080"/>
            <a:ext cx="1101960" cy="2109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33640" y="2741760"/>
            <a:ext cx="1768680" cy="939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692520" y="1160640"/>
            <a:ext cx="206856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65920" y="114300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06520" y="3413160"/>
            <a:ext cx="20448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803240" y="4689360"/>
            <a:ext cx="1541520" cy="2046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400800" y="2481120"/>
            <a:ext cx="1152360" cy="1176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62280" y="3425760"/>
            <a:ext cx="21034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64120" y="3408480"/>
            <a:ext cx="20703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13000" y="5678640"/>
            <a:ext cx="204444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86040" y="569124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78520" y="5691240"/>
            <a:ext cx="207792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963800" y="2462040"/>
            <a:ext cx="768240" cy="1025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886200" y="5159520"/>
            <a:ext cx="1752480" cy="537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784920" y="4648320"/>
            <a:ext cx="606600" cy="1063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4156200" y="71280"/>
            <a:ext cx="1216080" cy="1108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1752480" y="93600"/>
            <a:ext cx="1524240" cy="1069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371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43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29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15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57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3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514600" y="220176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tarring: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14600" y="212580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Dewey Cheatum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Anita Hugginkis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vana Winn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eymour Money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514600" y="227808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Phil R. Up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Craven Sumfood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Lee V. Mediately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ma B. Utiful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and E. Beache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762120"/>
            <a:ext cx="1219320" cy="15238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0"/>
            <a:ext cx="70056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95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95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81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33440" y="1147680"/>
            <a:ext cx="20685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56600" y="100080"/>
            <a:ext cx="1101600" cy="2109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72080" y="2741760"/>
            <a:ext cx="1768320" cy="939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530600" y="1160640"/>
            <a:ext cx="206856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04000" y="114300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44600" y="3413160"/>
            <a:ext cx="20448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641680" y="4689360"/>
            <a:ext cx="1541520" cy="2046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238880" y="2481120"/>
            <a:ext cx="1152720" cy="1176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500720" y="3425760"/>
            <a:ext cx="210312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02560" y="3408480"/>
            <a:ext cx="20700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51080" y="5678640"/>
            <a:ext cx="204480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24480" y="5691240"/>
            <a:ext cx="20872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16600" y="5691240"/>
            <a:ext cx="20782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801880" y="2462040"/>
            <a:ext cx="768240" cy="1025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724280" y="5159520"/>
            <a:ext cx="1752840" cy="537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7623000" y="4648320"/>
            <a:ext cx="606600" cy="1063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4994280" y="71280"/>
            <a:ext cx="1216080" cy="1108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2590920" y="93600"/>
            <a:ext cx="1523880" cy="1069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209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81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67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53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95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81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1371600"/>
            <a:ext cx="121932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289080"/>
            <a:ext cx="198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Scoreboar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814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2971800"/>
            <a:ext cx="1219320" cy="15238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3581280"/>
            <a:ext cx="121932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302436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5029200"/>
            <a:ext cx="1524240" cy="762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Here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W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5867280"/>
            <a:ext cx="1524240" cy="762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Here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 W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881360" y="139680"/>
            <a:ext cx="5010120" cy="52894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776680" y="235080"/>
            <a:ext cx="3578040" cy="26524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884240" y="2795760"/>
            <a:ext cx="4997520" cy="2622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81360" y="139680"/>
            <a:ext cx="7761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75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881360" y="139680"/>
            <a:ext cx="5010120" cy="52894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776680" y="235080"/>
            <a:ext cx="3578040" cy="2652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884240" y="2795760"/>
            <a:ext cx="4997520" cy="2622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81360" y="139680"/>
            <a:ext cx="7761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75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893960" y="206280"/>
            <a:ext cx="4991040" cy="52196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87480" y="2859120"/>
            <a:ext cx="4944960" cy="2585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60720" y="195120"/>
            <a:ext cx="2843280" cy="27100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893960" y="206280"/>
            <a:ext cx="82548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75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893960" y="206280"/>
            <a:ext cx="4991040" cy="52196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87480" y="2859120"/>
            <a:ext cx="4944960" cy="2585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60720" y="195120"/>
            <a:ext cx="2843280" cy="27100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893960" y="206280"/>
            <a:ext cx="82548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swer for Squar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75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886040" y="217440"/>
            <a:ext cx="4956120" cy="5202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220920" y="276120"/>
            <a:ext cx="2559240" cy="51436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903320" y="2819520"/>
            <a:ext cx="4883400" cy="2576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86040" y="217440"/>
            <a:ext cx="8175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for Square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75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8T18:50:51Z</dcterms:created>
  <dc:creator>Mark E. Damon</dc:creator>
  <dc:description/>
  <dc:language>en-US</dc:language>
  <cp:lastModifiedBy>Karen Samis</cp:lastModifiedBy>
  <dcterms:modified xsi:type="dcterms:W3CDTF">2008-06-21T12:11:26Z</dcterms:modified>
  <cp:revision>26</cp:revision>
  <dc:subject/>
  <dc:title>No Slide Title</dc:title>
</cp:coreProperties>
</file>