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7E7-AF93-4BB6-B173-53AB565D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C07-5463-4B9B-80E8-72FFE88E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72E-4017-484B-A9AB-7082B18C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5D4-F240-45E9-8AA4-E7B6D3F2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5A3-8F7F-45CE-9B0D-9A492E7C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8A9-0342-4627-9064-6CCAAFB3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406-A43E-4884-8C2D-7784A5CE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2A5-92F7-4D51-97DE-B66A2C6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D31-2014-49FD-B5DF-E098FF10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79C-01F2-4A3B-8CC7-E5C1B452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57CD-0913-4271-ACF9-5AACCEC9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5E2-334F-440E-9372-6085E4E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4E21-0C66-4401-8634-242C1BE28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11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38880" y="3049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6002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16002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89548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89548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191120"/>
            <a:ext cx="161748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4191120"/>
            <a:ext cx="1617840" cy="1176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486400"/>
            <a:ext cx="161748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5486400"/>
            <a:ext cx="1617840" cy="11764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30492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2057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3" action="ppaction://hlinksldjump"/>
          </p:cNvPr>
          <p:cNvSpPr/>
          <p:nvPr/>
        </p:nvSpPr>
        <p:spPr>
          <a:xfrm>
            <a:off x="3809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" action="ppaction://hlinksldjump"/>
          </p:cNvPr>
          <p:cNvSpPr/>
          <p:nvPr/>
        </p:nvSpPr>
        <p:spPr>
          <a:xfrm>
            <a:off x="7238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685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30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6" action="ppaction://hlinksldjump"/>
          </p:cNvPr>
          <p:cNvSpPr/>
          <p:nvPr/>
        </p:nvSpPr>
        <p:spPr>
          <a:xfrm>
            <a:off x="30492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7" action="ppaction://hlinksldjump"/>
          </p:cNvPr>
          <p:cNvSpPr/>
          <p:nvPr/>
        </p:nvSpPr>
        <p:spPr>
          <a:xfrm>
            <a:off x="2057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3809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9" action="ppaction://hlinksldjump"/>
          </p:cNvPr>
          <p:cNvSpPr/>
          <p:nvPr/>
        </p:nvSpPr>
        <p:spPr>
          <a:xfrm>
            <a:off x="548640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588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0" action="ppaction://hlinksldjump"/>
          </p:cNvPr>
          <p:cNvSpPr/>
          <p:nvPr/>
        </p:nvSpPr>
        <p:spPr>
          <a:xfrm>
            <a:off x="7238880" y="2362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1981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30492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2057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3" action="ppaction://hlinksldjump"/>
          </p:cNvPr>
          <p:cNvSpPr/>
          <p:nvPr/>
        </p:nvSpPr>
        <p:spPr>
          <a:xfrm>
            <a:off x="3809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4" action="ppaction://hlinksldjump"/>
          </p:cNvPr>
          <p:cNvSpPr/>
          <p:nvPr/>
        </p:nvSpPr>
        <p:spPr>
          <a:xfrm>
            <a:off x="548640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5" action="ppaction://hlinksldjump"/>
          </p:cNvPr>
          <p:cNvSpPr/>
          <p:nvPr/>
        </p:nvSpPr>
        <p:spPr>
          <a:xfrm>
            <a:off x="7238880" y="3657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2895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48720" y="5867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304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01000" y="2895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001000" y="4191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5486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5410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93160" y="2743200"/>
            <a:ext cx="3481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WILD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7760" y="2590920"/>
            <a:ext cx="2780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nsta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eparated by a + or - sig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divis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DIVIDE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 multiplication problem (MULTIPLY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effici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Has “exactly” three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r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o find the value of an express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Bi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Lik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Monom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The result of an addition probl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(ADD!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letter that represents an “unknown” valu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attached to a varia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implif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Same variable with </a:t>
            </a: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same</a:t>
            </a: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 expo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xactly 2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Reduce to lowest term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438280"/>
            <a:ext cx="6400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A number that stands al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3837"/>
                </a:moveTo>
                <a:lnTo>
                  <a:pt x="18771" y="6448"/>
                </a:ln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lnTo>
                  <a:pt x="23158" y="10800"/>
                </a:lnTo>
                <a:lnTo>
                  <a:pt x="21504" y="10800"/>
                </a:lnTo>
                <a:lnTo>
                  <a:pt x="21504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2" y="10800"/>
                </a:lnTo>
                <a:close/>
              </a:path>
              <a:path fill="darkenLess" w="32390" h="21600">
                <a:moveTo>
                  <a:pt x="18771" y="6448"/>
                </a:moveTo>
                <a:lnTo>
                  <a:pt x="18771" y="4707"/>
                </a:lnTo>
                <a:lnTo>
                  <a:pt x="20547" y="4707"/>
                </a:lnTo>
                <a:lnTo>
                  <a:pt x="20547" y="8224"/>
                </a:lnTo>
                <a:close/>
              </a:path>
              <a:path fill="darkenLess" w="32390" h="21600">
                <a:moveTo>
                  <a:pt x="15272" y="14299"/>
                </a:moveTo>
                <a:lnTo>
                  <a:pt x="17117" y="14299"/>
                </a:lnTo>
                <a:lnTo>
                  <a:pt x="17117" y="17989"/>
                </a:lnTo>
                <a:lnTo>
                  <a:pt x="21504" y="17989"/>
                </a:lnTo>
                <a:lnTo>
                  <a:pt x="21504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2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9080" y="2438280"/>
            <a:ext cx="3804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valua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00:56:22Z</dcterms:created>
  <dc:creator>Karen Samis</dc:creator>
  <dc:description/>
  <dc:language>en-US</dc:language>
  <cp:lastModifiedBy>Karen Samis</cp:lastModifiedBy>
  <dcterms:modified xsi:type="dcterms:W3CDTF">2008-11-06T02:05:44Z</dcterms:modified>
  <cp:revision>12</cp:revision>
  <dc:subject/>
  <dc:title>Slide 1</dc:title>
</cp:coreProperties>
</file>