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A46-BE14-4BDF-99D1-7760F9CC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79C-CBB5-43E4-9B89-79C7DE73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A1D-AE7F-4059-98D6-40D90A65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ACD-DCA2-4EB3-BFA4-F53625D6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1E4-5741-4521-9FB6-726BBFF5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242-8FBA-4192-A1EB-51FB015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3E5-2713-4FF6-BFF3-5B7B6C97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A3C-B37C-4D62-833C-4A05AA5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56F-EF15-4481-A317-E6B04B9C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795-2B6B-43EC-B235-EB0E060C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9C4-CFEE-4C26-84BD-98282AE7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2AD-C84A-4D1B-9A11-15DAC32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144C-F17F-490F-BBB9-ACCA400C9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11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911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4864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2057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809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7238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7" action="ppaction://hlinksldjump"/>
          </p:cNvPr>
          <p:cNvSpPr/>
          <p:nvPr/>
        </p:nvSpPr>
        <p:spPr>
          <a:xfrm>
            <a:off x="2057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809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5486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238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3049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2057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809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5486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7238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160" y="2743200"/>
            <a:ext cx="348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ILD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7760" y="2590920"/>
            <a:ext cx="278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n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parated by a + or - sig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divis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DIVIDE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multiplication problem (MULTIPLY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effi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as “exactly” three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 find the value of an 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k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n addit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ADD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letter that represents an “unknown”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attached to a 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ame variable with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expo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xactly 2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duce to lowest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4382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that stands al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9080" y="2438280"/>
            <a:ext cx="380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0:56:22Z</dcterms:created>
  <dc:creator>Karen Samis</dc:creator>
  <dc:description/>
  <dc:language>en-US</dc:language>
  <cp:lastModifiedBy>Karen Samis</cp:lastModifiedBy>
  <dcterms:modified xsi:type="dcterms:W3CDTF">2008-11-06T02:05:44Z</dcterms:modified>
  <cp:revision>12</cp:revision>
  <dc:subject/>
  <dc:title>Slide 1</dc:title>
</cp:coreProperties>
</file>