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1CFD5-8370-4F2C-AC47-695072C8F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CD51B-F970-4468-9FC2-2CADF2CCA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4DA86-4AA9-4D18-9305-F45E90664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02AAB-5A94-405A-A883-C0FADEAAE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56DDC-1558-4AE3-A78E-C5A8AFF22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92815-2F37-456F-A60A-0CB5B4E87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4E8C6-F8CE-49EC-8F91-D96FED615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0EA51-CD2C-4A17-97D4-220E93880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45474-7C06-44B9-94BC-F17A1CA83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65E83-6FA4-4250-84F5-A1849DC84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4C6ED-C80B-4B25-BC1D-0658B0422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4A08E-FF17-4E67-A2FB-D9AA37136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817D7-1C04-45C0-A7BE-248A35EF7D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slide" Target="slide11.xml"/><Relationship Id="rId11" Type="http://schemas.openxmlformats.org/officeDocument/2006/relationships/slide" Target=""/><Relationship Id="rId12" Type="http://schemas.openxmlformats.org/officeDocument/2006/relationships/slide" Target=""/><Relationship Id="rId13" Type="http://schemas.openxmlformats.org/officeDocument/2006/relationships/slide" Target=""/><Relationship Id="rId14" Type="http://schemas.openxmlformats.org/officeDocument/2006/relationships/slide" Target=""/><Relationship Id="rId15" Type="http://schemas.openxmlformats.org/officeDocument/2006/relationships/slide" Target=""/><Relationship Id="rId16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4920" y="304920"/>
            <a:ext cx="1617480" cy="117612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057400" y="304920"/>
            <a:ext cx="1617840" cy="117612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809880" y="304920"/>
            <a:ext cx="1617840" cy="117612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486400" y="304920"/>
            <a:ext cx="1617840" cy="117612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238880" y="304920"/>
            <a:ext cx="1617840" cy="117612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04920" y="1600200"/>
            <a:ext cx="1617480" cy="117648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057400" y="1600200"/>
            <a:ext cx="1617840" cy="117648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809880" y="1600200"/>
            <a:ext cx="1617840" cy="117648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486400" y="1600200"/>
            <a:ext cx="1617840" cy="117648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238880" y="1600200"/>
            <a:ext cx="1617840" cy="117648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2895480"/>
            <a:ext cx="1617480" cy="117648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57400" y="2895480"/>
            <a:ext cx="1617840" cy="117648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809880" y="2895480"/>
            <a:ext cx="1617840" cy="117648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486400" y="2895480"/>
            <a:ext cx="1617840" cy="117648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238880" y="2895480"/>
            <a:ext cx="1617840" cy="117648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4920" y="4191120"/>
            <a:ext cx="1617480" cy="117612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057400" y="4191120"/>
            <a:ext cx="1617840" cy="117612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09880" y="4191120"/>
            <a:ext cx="1617840" cy="117612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486400" y="4191120"/>
            <a:ext cx="1617840" cy="117612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238880" y="4191120"/>
            <a:ext cx="1617840" cy="117612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04920" y="5486400"/>
            <a:ext cx="1617480" cy="117648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057400" y="5486400"/>
            <a:ext cx="1617840" cy="117648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809880" y="5486400"/>
            <a:ext cx="1617840" cy="117648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486400" y="5486400"/>
            <a:ext cx="1617840" cy="117648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238880" y="5486400"/>
            <a:ext cx="1617840" cy="117648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>
            <a:hlinkClick r:id="rId1" action="ppaction://hlinksldjump"/>
          </p:cNvPr>
          <p:cNvSpPr/>
          <p:nvPr/>
        </p:nvSpPr>
        <p:spPr>
          <a:xfrm>
            <a:off x="304920" y="10666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914400" y="68580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04920" y="3049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>
            <a:hlinkClick r:id="rId2" action="ppaction://hlinksldjump"/>
          </p:cNvPr>
          <p:cNvSpPr/>
          <p:nvPr/>
        </p:nvSpPr>
        <p:spPr>
          <a:xfrm>
            <a:off x="2057400" y="10666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666880" y="68580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057400" y="3049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>
            <a:hlinkClick r:id="rId3" action="ppaction://hlinksldjump"/>
          </p:cNvPr>
          <p:cNvSpPr/>
          <p:nvPr/>
        </p:nvSpPr>
        <p:spPr>
          <a:xfrm>
            <a:off x="3809880" y="10666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19720" y="68580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809880" y="3049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>
            <a:hlinkClick r:id="rId4" action="ppaction://hlinksldjump"/>
          </p:cNvPr>
          <p:cNvSpPr/>
          <p:nvPr/>
        </p:nvSpPr>
        <p:spPr>
          <a:xfrm>
            <a:off x="5486400" y="10666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095880" y="68580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486400" y="3049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>
            <a:hlinkClick r:id="rId5" action="ppaction://hlinksldjump"/>
          </p:cNvPr>
          <p:cNvSpPr/>
          <p:nvPr/>
        </p:nvSpPr>
        <p:spPr>
          <a:xfrm>
            <a:off x="7238880" y="10666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848720" y="68580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238880" y="3049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>
            <a:hlinkClick r:id="rId6" action="ppaction://hlinksldjump"/>
          </p:cNvPr>
          <p:cNvSpPr/>
          <p:nvPr/>
        </p:nvSpPr>
        <p:spPr>
          <a:xfrm>
            <a:off x="304920" y="23623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914400" y="19810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160020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>
            <a:hlinkClick r:id="rId7" action="ppaction://hlinksldjump"/>
          </p:cNvPr>
          <p:cNvSpPr/>
          <p:nvPr/>
        </p:nvSpPr>
        <p:spPr>
          <a:xfrm>
            <a:off x="2057400" y="23623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666880" y="19810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057400" y="160020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>
            <a:hlinkClick r:id="rId8" action="ppaction://hlinksldjump"/>
          </p:cNvPr>
          <p:cNvSpPr/>
          <p:nvPr/>
        </p:nvSpPr>
        <p:spPr>
          <a:xfrm>
            <a:off x="3809880" y="23623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9810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809880" y="160020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>
            <a:hlinkClick r:id="rId9" action="ppaction://hlinksldjump"/>
          </p:cNvPr>
          <p:cNvSpPr/>
          <p:nvPr/>
        </p:nvSpPr>
        <p:spPr>
          <a:xfrm>
            <a:off x="5486400" y="23623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095880" y="19810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486400" y="160020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>
            <a:hlinkClick r:id="rId10" action="ppaction://hlinksldjump"/>
          </p:cNvPr>
          <p:cNvSpPr/>
          <p:nvPr/>
        </p:nvSpPr>
        <p:spPr>
          <a:xfrm>
            <a:off x="7238880" y="23623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848720" y="19810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238880" y="160020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>
            <a:hlinkClick r:id="rId11" action="ppaction://hlinksldjump"/>
          </p:cNvPr>
          <p:cNvSpPr/>
          <p:nvPr/>
        </p:nvSpPr>
        <p:spPr>
          <a:xfrm>
            <a:off x="304920" y="365760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914400" y="32767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920" y="2895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>
            <a:hlinkClick r:id="rId12" action="ppaction://hlinksldjump"/>
          </p:cNvPr>
          <p:cNvSpPr/>
          <p:nvPr/>
        </p:nvSpPr>
        <p:spPr>
          <a:xfrm>
            <a:off x="2057400" y="365760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666880" y="32767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057400" y="2895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>
            <a:hlinkClick r:id="rId13" action="ppaction://hlinksldjump"/>
          </p:cNvPr>
          <p:cNvSpPr/>
          <p:nvPr/>
        </p:nvSpPr>
        <p:spPr>
          <a:xfrm>
            <a:off x="3809880" y="365760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419720" y="32767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809880" y="2895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>
            <a:hlinkClick r:id="rId14" action="ppaction://hlinksldjump"/>
          </p:cNvPr>
          <p:cNvSpPr/>
          <p:nvPr/>
        </p:nvSpPr>
        <p:spPr>
          <a:xfrm>
            <a:off x="5486400" y="365760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2767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486400" y="2895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>
            <a:hlinkClick r:id="rId15" action="ppaction://hlinksldjump"/>
          </p:cNvPr>
          <p:cNvSpPr/>
          <p:nvPr/>
        </p:nvSpPr>
        <p:spPr>
          <a:xfrm>
            <a:off x="7238880" y="365760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848720" y="32767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238880" y="2895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04920" y="49528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914400" y="457200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04920" y="4191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057400" y="49528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666880" y="457200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057400" y="4191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809880" y="49528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419720" y="457200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09880" y="4191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86400" y="49528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095880" y="457200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4191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238880" y="49528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848720" y="457200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238880" y="4191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0492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914400" y="58672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04920" y="548640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0574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666880" y="58672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057400" y="548640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80988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419720" y="58672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09880" y="548640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4864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095880" y="58672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486400" y="548640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23888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848720" y="58672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238880" y="548640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71800" y="3049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229600" y="3049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400800" y="3049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001000" y="160020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800600" y="3049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219320" y="3049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219320" y="160020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048120" y="160020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160020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324480" y="160020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19320" y="289548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971800" y="289548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48320" y="289548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400800" y="289548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8001000" y="289548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219320" y="41911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971800" y="41911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1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48320" y="41911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1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248520" y="41911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8001000" y="41911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143000" y="548640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2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95480" y="548640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2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648320" y="548640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2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248520" y="548640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2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8001000" y="541008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68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68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67"/>
                                        </p:tgtEl>
                                      </p:cBhvr>
                                      <p:to x="300000" y="3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71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" dur="2000" fill="hold"/>
                                        <p:tgtEl>
                                          <p:spTgt spid="70"/>
                                        </p:tgtEl>
                                      </p:cBhvr>
                                      <p:to x="300000" y="3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" restart="whenNotActive" nodeType="interactiveSeq" fill="hold">
                <p:stCondLst>
                  <p:cond evt="onClick">
                    <p:tgtEl>
                      <p:spTgt spid="74"/>
                    </p:tgtEl>
                  </p:cond>
                </p:stCondLst>
                <p:childTnLst>
                  <p:par>
                    <p:cTn id="13" fill="hold">
                      <p:stCondLst>
                        <p:cond evt="onClick">
                          <p:tgtEl>
                            <p:spTgt spid="74"/>
                          </p:tgtEl>
                        </p:cond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" dur="2000" fill="hold"/>
                                        <p:tgtEl>
                                          <p:spTgt spid="73"/>
                                        </p:tgtEl>
                                      </p:cBhvr>
                                      <p:to x="300000" y="3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" restart="whenNotActive" nodeType="interactiveSeq" fill="hold">
                <p:stCondLst>
                  <p:cond evt="onClick">
                    <p:tgtEl>
                      <p:spTgt spid="77"/>
                    </p:tgtEl>
                  </p:cond>
                </p:stCondLst>
                <p:childTnLst>
                  <p:par>
                    <p:cTn id="18" fill="hold">
                      <p:stCondLst>
                        <p:cond evt="onClick">
                          <p:tgtEl>
                            <p:spTgt spid="77"/>
                          </p:tgtEl>
                        </p:cond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1" dur="2000" fill="hold"/>
                                        <p:tgtEl>
                                          <p:spTgt spid="76"/>
                                        </p:tgtEl>
                                      </p:cBhvr>
                                      <p:to x="300000" y="3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" restart="whenNotActive" nodeType="interactiveSeq" fill="hold">
                <p:stCondLst>
                  <p:cond evt="onClick">
                    <p:tgtEl>
                      <p:spTgt spid="80"/>
                    </p:tgtEl>
                  </p:cond>
                </p:stCondLst>
                <p:childTnLst>
                  <p:par>
                    <p:cTn id="23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6" dur="2000" fill="hold"/>
                                        <p:tgtEl>
                                          <p:spTgt spid="79"/>
                                        </p:tgtEl>
                                      </p:cBhvr>
                                      <p:to x="300000" y="3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" restart="whenNotActive" nodeType="interactiveSeq" fill="hold">
                <p:stCondLst>
                  <p:cond evt="onClick">
                    <p:tgtEl>
                      <p:spTgt spid="83"/>
                    </p:tgtEl>
                  </p:cond>
                </p:stCondLst>
                <p:childTnLst>
                  <p:par>
                    <p:cTn id="28" fill="hold">
                      <p:stCondLst>
                        <p:cond evt="onClick">
                          <p:tgtEl>
                            <p:spTgt spid="83"/>
                          </p:tgtEl>
                        </p:cond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1" dur="2000" fill="hold"/>
                                        <p:tgtEl>
                                          <p:spTgt spid="82"/>
                                        </p:tgtEl>
                                      </p:cBhvr>
                                      <p:to x="300000" y="3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" restart="whenNotActive" nodeType="interactiveSeq" fill="hold">
                <p:stCondLst>
                  <p:cond evt="onClick">
                    <p:tgtEl>
                      <p:spTgt spid="86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86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6" dur="2000" fill="hold"/>
                                        <p:tgtEl>
                                          <p:spTgt spid="85"/>
                                        </p:tgtEl>
                                      </p:cBhvr>
                                      <p:to x="300000" y="3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" restart="whenNotActive" nodeType="interactiveSeq" fill="hold">
                <p:stCondLst>
                  <p:cond evt="onClick">
                    <p:tgtEl>
                      <p:spTgt spid="89"/>
                    </p:tgtEl>
                  </p:cond>
                </p:stCondLst>
                <p:childTnLst>
                  <p:par>
                    <p:cTn id="38" fill="hold">
                      <p:stCondLst>
                        <p:cond evt="onClick">
                          <p:tgtEl>
                            <p:spTgt spid="89"/>
                          </p:tgtEl>
                        </p:cond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1" dur="2000" fill="hold"/>
                                        <p:tgtEl>
                                          <p:spTgt spid="88"/>
                                        </p:tgtEl>
                                      </p:cBhvr>
                                      <p:to x="300000" y="3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" restart="whenNotActive" nodeType="interactiveSeq" fill="hold">
                <p:stCondLst>
                  <p:cond evt="onClick">
                    <p:tgtEl>
                      <p:spTgt spid="92"/>
                    </p:tgtEl>
                  </p:cond>
                </p:stCondLst>
                <p:childTnLst>
                  <p:par>
                    <p:cTn id="43" fill="hold">
                      <p:stCondLst>
                        <p:cond evt="onClick">
                          <p:tgtEl>
                            <p:spTgt spid="92"/>
                          </p:tgtEl>
                        </p:cond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6" dur="2000" fill="hold"/>
                                        <p:tgtEl>
                                          <p:spTgt spid="91"/>
                                        </p:tgtEl>
                                      </p:cBhvr>
                                      <p:to x="300000" y="3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" restart="whenNotActive" nodeType="interactiveSeq" fill="hold">
                <p:stCondLst>
                  <p:cond evt="onClick">
                    <p:tgtEl>
                      <p:spTgt spid="95"/>
                    </p:tgtEl>
                  </p:cond>
                </p:stCondLst>
                <p:childTnLst>
                  <p:par>
                    <p:cTn id="48" fill="hold">
                      <p:stCondLst>
                        <p:cond evt="onClick">
                          <p:tgtEl>
                            <p:spTgt spid="95"/>
                          </p:tgtEl>
                        </p:cond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1" dur="2000" fill="hold"/>
                                        <p:tgtEl>
                                          <p:spTgt spid="94"/>
                                        </p:tgtEl>
                                      </p:cBhvr>
                                      <p:to x="300000" y="3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" restart="whenNotActive" nodeType="interactiveSeq" fill="hold">
                <p:stCondLst>
                  <p:cond evt="onClick">
                    <p:tgtEl>
                      <p:spTgt spid="98"/>
                    </p:tgtEl>
                  </p:cond>
                </p:stCondLst>
                <p:childTnLst>
                  <p:par>
                    <p:cTn id="53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6" dur="2000" fill="hold"/>
                                        <p:tgtEl>
                                          <p:spTgt spid="97"/>
                                        </p:tgtEl>
                                      </p:cBhvr>
                                      <p:to x="300000" y="3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" restart="whenNotActive" nodeType="interactiveSeq" fill="hold">
                <p:stCondLst>
                  <p:cond evt="onClick">
                    <p:tgtEl>
                      <p:spTgt spid="101"/>
                    </p:tgtEl>
                  </p:cond>
                </p:stCondLst>
                <p:childTnLst>
                  <p:par>
                    <p:cTn id="58" fill="hold">
                      <p:stCondLst>
                        <p:cond evt="onClick">
                          <p:tgtEl>
                            <p:spTgt spid="101"/>
                          </p:tgtEl>
                        </p:cond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1" dur="2000" fill="hold"/>
                                        <p:tgtEl>
                                          <p:spTgt spid="100"/>
                                        </p:tgtEl>
                                      </p:cBhvr>
                                      <p:to x="300000" y="3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" restart="whenNotActive" nodeType="interactiveSeq" fill="hold">
                <p:stCondLst>
                  <p:cond evt="onClick">
                    <p:tgtEl>
                      <p:spTgt spid="104"/>
                    </p:tgtEl>
                  </p:cond>
                </p:stCondLst>
                <p:childTnLst>
                  <p:par>
                    <p:cTn id="63" fill="hold">
                      <p:stCondLst>
                        <p:cond evt="onClick">
                          <p:tgtEl>
                            <p:spTgt spid="104"/>
                          </p:tgtEl>
                        </p:cond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6" dur="2000" fill="hold"/>
                                        <p:tgtEl>
                                          <p:spTgt spid="103"/>
                                        </p:tgtEl>
                                      </p:cBhvr>
                                      <p:to x="300000" y="3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68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1" dur="2000" fill="hold"/>
                                        <p:tgtEl>
                                          <p:spTgt spid="106"/>
                                        </p:tgtEl>
                                      </p:cBhvr>
                                      <p:to x="300000" y="3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" restart="whenNotActive" nodeType="interactiveSeq" fill="hold">
                <p:stCondLst>
                  <p:cond evt="onClick">
                    <p:tgtEl>
                      <p:spTgt spid="110"/>
                    </p:tgtEl>
                  </p:cond>
                </p:stCondLst>
                <p:childTnLst>
                  <p:par>
                    <p:cTn id="73" fill="hold">
                      <p:stCondLst>
                        <p:cond evt="onClick">
                          <p:tgtEl>
                            <p:spTgt spid="110"/>
                          </p:tgtEl>
                        </p:cond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6" dur="2000" fill="hold"/>
                                        <p:tgtEl>
                                          <p:spTgt spid="109"/>
                                        </p:tgtEl>
                                      </p:cBhvr>
                                      <p:to x="300000" y="3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7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78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1" dur="2000" fill="hold"/>
                                        <p:tgtEl>
                                          <p:spTgt spid="112"/>
                                        </p:tgtEl>
                                      </p:cBhvr>
                                      <p:to x="300000" y="3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" restart="whenNotActive" nodeType="interactiveSeq" fill="hold">
                <p:stCondLst>
                  <p:cond evt="onClick">
                    <p:tgtEl>
                      <p:spTgt spid="116"/>
                    </p:tgtEl>
                  </p:cond>
                </p:stCondLst>
                <p:childTnLst>
                  <p:par>
                    <p:cTn id="83" fill="hold">
                      <p:stCondLst>
                        <p:cond evt="onClick">
                          <p:tgtEl>
                            <p:spTgt spid="116"/>
                          </p:tgtEl>
                        </p:cond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6" dur="2000" fill="hold"/>
                                        <p:tgtEl>
                                          <p:spTgt spid="115"/>
                                        </p:tgtEl>
                                      </p:cBhvr>
                                      <p:to x="300000" y="3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7" restart="whenNotActive" nodeType="interactiveSeq" fill="hold">
                <p:stCondLst>
                  <p:cond evt="onClick">
                    <p:tgtEl>
                      <p:spTgt spid="119"/>
                    </p:tgtEl>
                  </p:cond>
                </p:stCondLst>
                <p:childTnLst>
                  <p:par>
                    <p:cTn id="88" fill="hold">
                      <p:stCondLst>
                        <p:cond evt="onClick">
                          <p:tgtEl>
                            <p:spTgt spid="119"/>
                          </p:tgtEl>
                        </p:cond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1" dur="2000" fill="hold"/>
                                        <p:tgtEl>
                                          <p:spTgt spid="118"/>
                                        </p:tgtEl>
                                      </p:cBhvr>
                                      <p:to x="300000" y="3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" restart="whenNotActive" nodeType="interactiveSeq" fill="hold">
                <p:stCondLst>
                  <p:cond evt="onClick">
                    <p:tgtEl>
                      <p:spTgt spid="122"/>
                    </p:tgtEl>
                  </p:cond>
                </p:stCondLst>
                <p:childTnLst>
                  <p:par>
                    <p:cTn id="93" fill="hold">
                      <p:stCondLst>
                        <p:cond evt="onClick">
                          <p:tgtEl>
                            <p:spTgt spid="122"/>
                          </p:tgtEl>
                        </p:cond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6" dur="2000" fill="hold"/>
                                        <p:tgtEl>
                                          <p:spTgt spid="121"/>
                                        </p:tgtEl>
                                      </p:cBhvr>
                                      <p:to x="300000" y="3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7" restart="whenNotActive" nodeType="interactiveSeq" fill="hold">
                <p:stCondLst>
                  <p:cond evt="onClick">
                    <p:tgtEl>
                      <p:spTgt spid="125"/>
                    </p:tgtEl>
                  </p:cond>
                </p:stCondLst>
                <p:childTnLst>
                  <p:par>
                    <p:cTn id="98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1" dur="2000" fill="hold"/>
                                        <p:tgtEl>
                                          <p:spTgt spid="124"/>
                                        </p:tgtEl>
                                      </p:cBhvr>
                                      <p:to x="300000" y="3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2" restart="whenNotActive" nodeType="interactiveSeq" fill="hold">
                <p:stCondLst>
                  <p:cond evt="onClick">
                    <p:tgtEl>
                      <p:spTgt spid="128"/>
                    </p:tgtEl>
                  </p:cond>
                </p:stCondLst>
                <p:childTnLst>
                  <p:par>
                    <p:cTn id="103" fill="hold">
                      <p:stCondLst>
                        <p:cond evt="onClick">
                          <p:tgtEl>
                            <p:spTgt spid="128"/>
                          </p:tgtEl>
                        </p:cond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6" dur="2000" fill="hold"/>
                                        <p:tgtEl>
                                          <p:spTgt spid="127"/>
                                        </p:tgtEl>
                                      </p:cBhvr>
                                      <p:to x="300000" y="3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7" restart="whenNotActive" nodeType="interactiveSeq" fill="hold">
                <p:stCondLst>
                  <p:cond evt="onClick">
                    <p:tgtEl>
                      <p:spTgt spid="131"/>
                    </p:tgtEl>
                  </p:cond>
                </p:stCondLst>
                <p:childTnLst>
                  <p:par>
                    <p:cTn id="108" fill="hold">
                      <p:stCondLst>
                        <p:cond evt="onClick">
                          <p:tgtEl>
                            <p:spTgt spid="131"/>
                          </p:tgtEl>
                        </p:cond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1" dur="2000" fill="hold"/>
                                        <p:tgtEl>
                                          <p:spTgt spid="130"/>
                                        </p:tgtEl>
                                      </p:cBhvr>
                                      <p:to x="300000" y="3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2" restart="whenNotActive" nodeType="interactiveSeq" fill="hold">
                <p:stCondLst>
                  <p:cond evt="onClick">
                    <p:tgtEl>
                      <p:spTgt spid="134"/>
                    </p:tgtEl>
                  </p:cond>
                </p:stCondLst>
                <p:childTnLst>
                  <p:par>
                    <p:cTn id="113" fill="hold">
                      <p:stCondLst>
                        <p:cond evt="onClick">
                          <p:tgtEl>
                            <p:spTgt spid="134"/>
                          </p:tgtEl>
                        </p:cond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6" dur="2000" fill="hold"/>
                                        <p:tgtEl>
                                          <p:spTgt spid="133"/>
                                        </p:tgtEl>
                                      </p:cBhvr>
                                      <p:to x="300000" y="3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7" restart="whenNotActive" nodeType="interactiveSeq" fill="hold">
                <p:stCondLst>
                  <p:cond evt="onClick">
                    <p:tgtEl>
                      <p:spTgt spid="137"/>
                    </p:tgtEl>
                  </p:cond>
                </p:stCondLst>
                <p:childTnLst>
                  <p:par>
                    <p:cTn id="118" fill="hold">
                      <p:stCondLst>
                        <p:cond evt="onClick">
                          <p:tgtEl>
                            <p:spTgt spid="137"/>
                          </p:tgtEl>
                        </p:cond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1" dur="2000" fill="hold"/>
                                        <p:tgtEl>
                                          <p:spTgt spid="136"/>
                                        </p:tgtEl>
                                      </p:cBhvr>
                                      <p:to x="300000" y="3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2" restart="whenNotActive" nodeType="interactiveSeq" fill="hold">
                <p:stCondLst>
                  <p:cond evt="onClick">
                    <p:tgtEl>
                      <p:spTgt spid="140"/>
                    </p:tgtEl>
                  </p:cond>
                </p:stCondLst>
                <p:childTnLst>
                  <p:par>
                    <p:cTn id="123" fill="hold">
                      <p:stCondLst>
                        <p:cond evt="onClick">
                          <p:tgtEl>
                            <p:spTgt spid="140"/>
                          </p:tgtEl>
                        </p:cond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6" dur="2000" fill="hold"/>
                                        <p:tgtEl>
                                          <p:spTgt spid="139"/>
                                        </p:tgtEl>
                                      </p:cBhvr>
                                      <p:to x="300000" y="3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>
            <a:hlinkClick r:id="" action="ppaction://hlinkshowjump?jump=firstslide"/>
          </p:cNvPr>
          <p:cNvSpPr/>
          <p:nvPr/>
        </p:nvSpPr>
        <p:spPr>
          <a:xfrm>
            <a:off x="8001000" y="6095880"/>
            <a:ext cx="1143000" cy="762120"/>
          </a:xfrm>
          <a:custGeom>
            <a:avLst/>
            <a:gdLst>
              <a:gd name="textAreaLeft" fmla="*/ 49320 w 1143000"/>
              <a:gd name="textAreaRight" fmla="*/ 1093680 w 11430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2390" h="21600">
                <a:moveTo>
                  <a:pt x="0" y="0"/>
                </a:moveTo>
                <a:lnTo>
                  <a:pt x="32390" y="0"/>
                </a:lnTo>
                <a:lnTo>
                  <a:pt x="32390" y="21600"/>
                </a:lnTo>
                <a:lnTo>
                  <a:pt x="0" y="21600"/>
                </a:lnTo>
                <a:close/>
              </a:path>
              <a:path fill="lightenLess" w="32390" h="21600">
                <a:moveTo>
                  <a:pt x="0" y="0"/>
                </a:moveTo>
                <a:lnTo>
                  <a:pt x="32390" y="0"/>
                </a:lnTo>
                <a:lnTo>
                  <a:pt x="30990" y="1400"/>
                </a:lnTo>
                <a:lnTo>
                  <a:pt x="1400" y="1400"/>
                </a:lnTo>
                <a:close/>
              </a:path>
              <a:path fill="darken" w="32390" h="21600">
                <a:moveTo>
                  <a:pt x="32390" y="0"/>
                </a:moveTo>
                <a:lnTo>
                  <a:pt x="32390" y="21600"/>
                </a:lnTo>
                <a:lnTo>
                  <a:pt x="30990" y="20200"/>
                </a:lnTo>
                <a:lnTo>
                  <a:pt x="30990" y="1400"/>
                </a:lnTo>
                <a:close/>
              </a:path>
              <a:path fill="darkenLess" w="32390" h="21600">
                <a:moveTo>
                  <a:pt x="323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0" y="20200"/>
                </a:lnTo>
                <a:close/>
              </a:path>
              <a:path fill="lighten" w="323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0" h="21600">
                <a:moveTo>
                  <a:pt x="16195" y="3837"/>
                </a:moveTo>
                <a:lnTo>
                  <a:pt x="18771" y="6448"/>
                </a:lnTo>
                <a:lnTo>
                  <a:pt x="18771" y="4707"/>
                </a:lnTo>
                <a:lnTo>
                  <a:pt x="20547" y="4707"/>
                </a:lnTo>
                <a:lnTo>
                  <a:pt x="20547" y="8224"/>
                </a:lnTo>
                <a:lnTo>
                  <a:pt x="23158" y="10800"/>
                </a:lnTo>
                <a:lnTo>
                  <a:pt x="21504" y="10800"/>
                </a:lnTo>
                <a:lnTo>
                  <a:pt x="21504" y="17989"/>
                </a:lnTo>
                <a:lnTo>
                  <a:pt x="10886" y="17989"/>
                </a:lnTo>
                <a:lnTo>
                  <a:pt x="10886" y="10800"/>
                </a:lnTo>
                <a:lnTo>
                  <a:pt x="9232" y="10800"/>
                </a:lnTo>
                <a:close/>
              </a:path>
              <a:path fill="darkenLess" w="32390" h="21600">
                <a:moveTo>
                  <a:pt x="18771" y="6448"/>
                </a:moveTo>
                <a:lnTo>
                  <a:pt x="18771" y="4707"/>
                </a:lnTo>
                <a:lnTo>
                  <a:pt x="20547" y="4707"/>
                </a:lnTo>
                <a:lnTo>
                  <a:pt x="20547" y="8224"/>
                </a:lnTo>
                <a:close/>
              </a:path>
              <a:path fill="darkenLess" w="32390" h="21600">
                <a:moveTo>
                  <a:pt x="15272" y="14299"/>
                </a:moveTo>
                <a:lnTo>
                  <a:pt x="17117" y="14299"/>
                </a:lnTo>
                <a:lnTo>
                  <a:pt x="17117" y="17989"/>
                </a:lnTo>
                <a:lnTo>
                  <a:pt x="21504" y="17989"/>
                </a:lnTo>
                <a:lnTo>
                  <a:pt x="21504" y="10800"/>
                </a:lnTo>
                <a:lnTo>
                  <a:pt x="10886" y="10800"/>
                </a:lnTo>
                <a:lnTo>
                  <a:pt x="10886" y="17989"/>
                </a:lnTo>
                <a:lnTo>
                  <a:pt x="15272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693160" y="2743200"/>
            <a:ext cx="3481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omic Sans MS"/>
              </a:rPr>
              <a:t>Produc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077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omic Sans MS"/>
              </a:rPr>
              <a:t>WILD</a:t>
            </a:r>
            <a:br>
              <a:rPr sz="6600"/>
            </a:br>
            <a:r>
              <a:rPr b="1" lang="en-US" sz="6600" spc="-1" strike="noStrike">
                <a:solidFill>
                  <a:srgbClr val="000000"/>
                </a:solidFill>
                <a:latin typeface="Comic Sans MS"/>
              </a:rPr>
              <a:t>CARD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>
            <a:hlinkClick r:id="" action="ppaction://hlinkshowjump?jump=firstslide"/>
          </p:cNvPr>
          <p:cNvSpPr/>
          <p:nvPr/>
        </p:nvSpPr>
        <p:spPr>
          <a:xfrm>
            <a:off x="8001000" y="6095880"/>
            <a:ext cx="1143000" cy="762120"/>
          </a:xfrm>
          <a:custGeom>
            <a:avLst/>
            <a:gdLst>
              <a:gd name="textAreaLeft" fmla="*/ 49320 w 1143000"/>
              <a:gd name="textAreaRight" fmla="*/ 1093680 w 11430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2390" h="21600">
                <a:moveTo>
                  <a:pt x="0" y="0"/>
                </a:moveTo>
                <a:lnTo>
                  <a:pt x="32390" y="0"/>
                </a:lnTo>
                <a:lnTo>
                  <a:pt x="32390" y="21600"/>
                </a:lnTo>
                <a:lnTo>
                  <a:pt x="0" y="21600"/>
                </a:lnTo>
                <a:close/>
              </a:path>
              <a:path fill="lightenLess" w="32390" h="21600">
                <a:moveTo>
                  <a:pt x="0" y="0"/>
                </a:moveTo>
                <a:lnTo>
                  <a:pt x="32390" y="0"/>
                </a:lnTo>
                <a:lnTo>
                  <a:pt x="30990" y="1400"/>
                </a:lnTo>
                <a:lnTo>
                  <a:pt x="1400" y="1400"/>
                </a:lnTo>
                <a:close/>
              </a:path>
              <a:path fill="darken" w="32390" h="21600">
                <a:moveTo>
                  <a:pt x="32390" y="0"/>
                </a:moveTo>
                <a:lnTo>
                  <a:pt x="32390" y="21600"/>
                </a:lnTo>
                <a:lnTo>
                  <a:pt x="30990" y="20200"/>
                </a:lnTo>
                <a:lnTo>
                  <a:pt x="30990" y="1400"/>
                </a:lnTo>
                <a:close/>
              </a:path>
              <a:path fill="darkenLess" w="32390" h="21600">
                <a:moveTo>
                  <a:pt x="323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0" y="20200"/>
                </a:lnTo>
                <a:close/>
              </a:path>
              <a:path fill="lighten" w="323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0" h="21600">
                <a:moveTo>
                  <a:pt x="16195" y="3837"/>
                </a:moveTo>
                <a:lnTo>
                  <a:pt x="18771" y="6448"/>
                </a:lnTo>
                <a:lnTo>
                  <a:pt x="18771" y="4707"/>
                </a:lnTo>
                <a:lnTo>
                  <a:pt x="20547" y="4707"/>
                </a:lnTo>
                <a:lnTo>
                  <a:pt x="20547" y="8224"/>
                </a:lnTo>
                <a:lnTo>
                  <a:pt x="23158" y="10800"/>
                </a:lnTo>
                <a:lnTo>
                  <a:pt x="21504" y="10800"/>
                </a:lnTo>
                <a:lnTo>
                  <a:pt x="21504" y="17989"/>
                </a:lnTo>
                <a:lnTo>
                  <a:pt x="10886" y="17989"/>
                </a:lnTo>
                <a:lnTo>
                  <a:pt x="10886" y="10800"/>
                </a:lnTo>
                <a:lnTo>
                  <a:pt x="9232" y="10800"/>
                </a:lnTo>
                <a:close/>
              </a:path>
              <a:path fill="darkenLess" w="32390" h="21600">
                <a:moveTo>
                  <a:pt x="18771" y="6448"/>
                </a:moveTo>
                <a:lnTo>
                  <a:pt x="18771" y="4707"/>
                </a:lnTo>
                <a:lnTo>
                  <a:pt x="20547" y="4707"/>
                </a:lnTo>
                <a:lnTo>
                  <a:pt x="20547" y="8224"/>
                </a:lnTo>
                <a:close/>
              </a:path>
              <a:path fill="darkenLess" w="32390" h="21600">
                <a:moveTo>
                  <a:pt x="15272" y="14299"/>
                </a:moveTo>
                <a:lnTo>
                  <a:pt x="17117" y="14299"/>
                </a:lnTo>
                <a:lnTo>
                  <a:pt x="17117" y="17989"/>
                </a:lnTo>
                <a:lnTo>
                  <a:pt x="21504" y="17989"/>
                </a:lnTo>
                <a:lnTo>
                  <a:pt x="21504" y="10800"/>
                </a:lnTo>
                <a:lnTo>
                  <a:pt x="10886" y="10800"/>
                </a:lnTo>
                <a:lnTo>
                  <a:pt x="10886" y="17989"/>
                </a:lnTo>
                <a:lnTo>
                  <a:pt x="15272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>
            <a:hlinkClick r:id="" action="ppaction://hlinkshowjump?jump=firstslide"/>
          </p:cNvPr>
          <p:cNvSpPr/>
          <p:nvPr/>
        </p:nvSpPr>
        <p:spPr>
          <a:xfrm>
            <a:off x="8001000" y="6095880"/>
            <a:ext cx="1143000" cy="762120"/>
          </a:xfrm>
          <a:custGeom>
            <a:avLst/>
            <a:gdLst>
              <a:gd name="textAreaLeft" fmla="*/ 49320 w 1143000"/>
              <a:gd name="textAreaRight" fmla="*/ 1093680 w 11430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2390" h="21600">
                <a:moveTo>
                  <a:pt x="0" y="0"/>
                </a:moveTo>
                <a:lnTo>
                  <a:pt x="32390" y="0"/>
                </a:lnTo>
                <a:lnTo>
                  <a:pt x="32390" y="21600"/>
                </a:lnTo>
                <a:lnTo>
                  <a:pt x="0" y="21600"/>
                </a:lnTo>
                <a:close/>
              </a:path>
              <a:path fill="lightenLess" w="32390" h="21600">
                <a:moveTo>
                  <a:pt x="0" y="0"/>
                </a:moveTo>
                <a:lnTo>
                  <a:pt x="32390" y="0"/>
                </a:lnTo>
                <a:lnTo>
                  <a:pt x="30990" y="1400"/>
                </a:lnTo>
                <a:lnTo>
                  <a:pt x="1400" y="1400"/>
                </a:lnTo>
                <a:close/>
              </a:path>
              <a:path fill="darken" w="32390" h="21600">
                <a:moveTo>
                  <a:pt x="32390" y="0"/>
                </a:moveTo>
                <a:lnTo>
                  <a:pt x="32390" y="21600"/>
                </a:lnTo>
                <a:lnTo>
                  <a:pt x="30990" y="20200"/>
                </a:lnTo>
                <a:lnTo>
                  <a:pt x="30990" y="1400"/>
                </a:lnTo>
                <a:close/>
              </a:path>
              <a:path fill="darkenLess" w="32390" h="21600">
                <a:moveTo>
                  <a:pt x="323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0" y="20200"/>
                </a:lnTo>
                <a:close/>
              </a:path>
              <a:path fill="lighten" w="323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0" h="21600">
                <a:moveTo>
                  <a:pt x="16195" y="3837"/>
                </a:moveTo>
                <a:lnTo>
                  <a:pt x="18771" y="6448"/>
                </a:lnTo>
                <a:lnTo>
                  <a:pt x="18771" y="4707"/>
                </a:lnTo>
                <a:lnTo>
                  <a:pt x="20547" y="4707"/>
                </a:lnTo>
                <a:lnTo>
                  <a:pt x="20547" y="8224"/>
                </a:lnTo>
                <a:lnTo>
                  <a:pt x="23158" y="10800"/>
                </a:lnTo>
                <a:lnTo>
                  <a:pt x="21504" y="10800"/>
                </a:lnTo>
                <a:lnTo>
                  <a:pt x="21504" y="17989"/>
                </a:lnTo>
                <a:lnTo>
                  <a:pt x="10886" y="17989"/>
                </a:lnTo>
                <a:lnTo>
                  <a:pt x="10886" y="10800"/>
                </a:lnTo>
                <a:lnTo>
                  <a:pt x="9232" y="10800"/>
                </a:lnTo>
                <a:close/>
              </a:path>
              <a:path fill="darkenLess" w="32390" h="21600">
                <a:moveTo>
                  <a:pt x="18771" y="6448"/>
                </a:moveTo>
                <a:lnTo>
                  <a:pt x="18771" y="4707"/>
                </a:lnTo>
                <a:lnTo>
                  <a:pt x="20547" y="4707"/>
                </a:lnTo>
                <a:lnTo>
                  <a:pt x="20547" y="8224"/>
                </a:lnTo>
                <a:close/>
              </a:path>
              <a:path fill="darkenLess" w="32390" h="21600">
                <a:moveTo>
                  <a:pt x="15272" y="14299"/>
                </a:moveTo>
                <a:lnTo>
                  <a:pt x="17117" y="14299"/>
                </a:lnTo>
                <a:lnTo>
                  <a:pt x="17117" y="17989"/>
                </a:lnTo>
                <a:lnTo>
                  <a:pt x="21504" y="17989"/>
                </a:lnTo>
                <a:lnTo>
                  <a:pt x="21504" y="10800"/>
                </a:lnTo>
                <a:lnTo>
                  <a:pt x="10886" y="10800"/>
                </a:lnTo>
                <a:lnTo>
                  <a:pt x="10886" y="17989"/>
                </a:lnTo>
                <a:lnTo>
                  <a:pt x="15272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777760" y="2590920"/>
            <a:ext cx="2780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omic Sans MS"/>
              </a:rPr>
              <a:t>Term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omic Sans MS"/>
              </a:rPr>
              <a:t>Variabl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>
            <a:hlinkClick r:id="" action="ppaction://hlinkshowjump?jump=firstslide"/>
          </p:cNvPr>
          <p:cNvSpPr/>
          <p:nvPr/>
        </p:nvSpPr>
        <p:spPr>
          <a:xfrm>
            <a:off x="8001000" y="6095880"/>
            <a:ext cx="1143000" cy="762120"/>
          </a:xfrm>
          <a:custGeom>
            <a:avLst/>
            <a:gdLst>
              <a:gd name="textAreaLeft" fmla="*/ 49320 w 1143000"/>
              <a:gd name="textAreaRight" fmla="*/ 1093680 w 11430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2390" h="21600">
                <a:moveTo>
                  <a:pt x="0" y="0"/>
                </a:moveTo>
                <a:lnTo>
                  <a:pt x="32390" y="0"/>
                </a:lnTo>
                <a:lnTo>
                  <a:pt x="32390" y="21600"/>
                </a:lnTo>
                <a:lnTo>
                  <a:pt x="0" y="21600"/>
                </a:lnTo>
                <a:close/>
              </a:path>
              <a:path fill="lightenLess" w="32390" h="21600">
                <a:moveTo>
                  <a:pt x="0" y="0"/>
                </a:moveTo>
                <a:lnTo>
                  <a:pt x="32390" y="0"/>
                </a:lnTo>
                <a:lnTo>
                  <a:pt x="30990" y="1400"/>
                </a:lnTo>
                <a:lnTo>
                  <a:pt x="1400" y="1400"/>
                </a:lnTo>
                <a:close/>
              </a:path>
              <a:path fill="darken" w="32390" h="21600">
                <a:moveTo>
                  <a:pt x="32390" y="0"/>
                </a:moveTo>
                <a:lnTo>
                  <a:pt x="32390" y="21600"/>
                </a:lnTo>
                <a:lnTo>
                  <a:pt x="30990" y="20200"/>
                </a:lnTo>
                <a:lnTo>
                  <a:pt x="30990" y="1400"/>
                </a:lnTo>
                <a:close/>
              </a:path>
              <a:path fill="darkenLess" w="32390" h="21600">
                <a:moveTo>
                  <a:pt x="323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0" y="20200"/>
                </a:lnTo>
                <a:close/>
              </a:path>
              <a:path fill="lighten" w="323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0" h="21600">
                <a:moveTo>
                  <a:pt x="16195" y="3837"/>
                </a:moveTo>
                <a:lnTo>
                  <a:pt x="18771" y="6448"/>
                </a:lnTo>
                <a:lnTo>
                  <a:pt x="18771" y="4707"/>
                </a:lnTo>
                <a:lnTo>
                  <a:pt x="20547" y="4707"/>
                </a:lnTo>
                <a:lnTo>
                  <a:pt x="20547" y="8224"/>
                </a:lnTo>
                <a:lnTo>
                  <a:pt x="23158" y="10800"/>
                </a:lnTo>
                <a:lnTo>
                  <a:pt x="21504" y="10800"/>
                </a:lnTo>
                <a:lnTo>
                  <a:pt x="21504" y="17989"/>
                </a:lnTo>
                <a:lnTo>
                  <a:pt x="10886" y="17989"/>
                </a:lnTo>
                <a:lnTo>
                  <a:pt x="10886" y="10800"/>
                </a:lnTo>
                <a:lnTo>
                  <a:pt x="9232" y="10800"/>
                </a:lnTo>
                <a:close/>
              </a:path>
              <a:path fill="darkenLess" w="32390" h="21600">
                <a:moveTo>
                  <a:pt x="18771" y="6448"/>
                </a:moveTo>
                <a:lnTo>
                  <a:pt x="18771" y="4707"/>
                </a:lnTo>
                <a:lnTo>
                  <a:pt x="20547" y="4707"/>
                </a:lnTo>
                <a:lnTo>
                  <a:pt x="20547" y="8224"/>
                </a:lnTo>
                <a:close/>
              </a:path>
              <a:path fill="darkenLess" w="32390" h="21600">
                <a:moveTo>
                  <a:pt x="15272" y="14299"/>
                </a:moveTo>
                <a:lnTo>
                  <a:pt x="17117" y="14299"/>
                </a:lnTo>
                <a:lnTo>
                  <a:pt x="17117" y="17989"/>
                </a:lnTo>
                <a:lnTo>
                  <a:pt x="21504" y="17989"/>
                </a:lnTo>
                <a:lnTo>
                  <a:pt x="21504" y="10800"/>
                </a:lnTo>
                <a:lnTo>
                  <a:pt x="10886" y="10800"/>
                </a:lnTo>
                <a:lnTo>
                  <a:pt x="10886" y="17989"/>
                </a:lnTo>
                <a:lnTo>
                  <a:pt x="15272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omic Sans MS"/>
              </a:rPr>
              <a:t>Constan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>
            <a:hlinkClick r:id="" action="ppaction://hlinkshowjump?jump=firstslide"/>
          </p:cNvPr>
          <p:cNvSpPr/>
          <p:nvPr/>
        </p:nvSpPr>
        <p:spPr>
          <a:xfrm>
            <a:off x="8001000" y="6095880"/>
            <a:ext cx="1143000" cy="762120"/>
          </a:xfrm>
          <a:custGeom>
            <a:avLst/>
            <a:gdLst>
              <a:gd name="textAreaLeft" fmla="*/ 49320 w 1143000"/>
              <a:gd name="textAreaRight" fmla="*/ 1093680 w 11430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2390" h="21600">
                <a:moveTo>
                  <a:pt x="0" y="0"/>
                </a:moveTo>
                <a:lnTo>
                  <a:pt x="32390" y="0"/>
                </a:lnTo>
                <a:lnTo>
                  <a:pt x="32390" y="21600"/>
                </a:lnTo>
                <a:lnTo>
                  <a:pt x="0" y="21600"/>
                </a:lnTo>
                <a:close/>
              </a:path>
              <a:path fill="lightenLess" w="32390" h="21600">
                <a:moveTo>
                  <a:pt x="0" y="0"/>
                </a:moveTo>
                <a:lnTo>
                  <a:pt x="32390" y="0"/>
                </a:lnTo>
                <a:lnTo>
                  <a:pt x="30990" y="1400"/>
                </a:lnTo>
                <a:lnTo>
                  <a:pt x="1400" y="1400"/>
                </a:lnTo>
                <a:close/>
              </a:path>
              <a:path fill="darken" w="32390" h="21600">
                <a:moveTo>
                  <a:pt x="32390" y="0"/>
                </a:moveTo>
                <a:lnTo>
                  <a:pt x="32390" y="21600"/>
                </a:lnTo>
                <a:lnTo>
                  <a:pt x="30990" y="20200"/>
                </a:lnTo>
                <a:lnTo>
                  <a:pt x="30990" y="1400"/>
                </a:lnTo>
                <a:close/>
              </a:path>
              <a:path fill="darkenLess" w="32390" h="21600">
                <a:moveTo>
                  <a:pt x="323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0" y="20200"/>
                </a:lnTo>
                <a:close/>
              </a:path>
              <a:path fill="lighten" w="323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0" h="21600">
                <a:moveTo>
                  <a:pt x="16195" y="3837"/>
                </a:moveTo>
                <a:lnTo>
                  <a:pt x="18771" y="6448"/>
                </a:lnTo>
                <a:lnTo>
                  <a:pt x="18771" y="4707"/>
                </a:lnTo>
                <a:lnTo>
                  <a:pt x="20547" y="4707"/>
                </a:lnTo>
                <a:lnTo>
                  <a:pt x="20547" y="8224"/>
                </a:lnTo>
                <a:lnTo>
                  <a:pt x="23158" y="10800"/>
                </a:lnTo>
                <a:lnTo>
                  <a:pt x="21504" y="10800"/>
                </a:lnTo>
                <a:lnTo>
                  <a:pt x="21504" y="17989"/>
                </a:lnTo>
                <a:lnTo>
                  <a:pt x="10886" y="17989"/>
                </a:lnTo>
                <a:lnTo>
                  <a:pt x="10886" y="10800"/>
                </a:lnTo>
                <a:lnTo>
                  <a:pt x="9232" y="10800"/>
                </a:lnTo>
                <a:close/>
              </a:path>
              <a:path fill="darkenLess" w="32390" h="21600">
                <a:moveTo>
                  <a:pt x="18771" y="6448"/>
                </a:moveTo>
                <a:lnTo>
                  <a:pt x="18771" y="4707"/>
                </a:lnTo>
                <a:lnTo>
                  <a:pt x="20547" y="4707"/>
                </a:lnTo>
                <a:lnTo>
                  <a:pt x="20547" y="8224"/>
                </a:lnTo>
                <a:close/>
              </a:path>
              <a:path fill="darkenLess" w="32390" h="21600">
                <a:moveTo>
                  <a:pt x="15272" y="14299"/>
                </a:moveTo>
                <a:lnTo>
                  <a:pt x="17117" y="14299"/>
                </a:lnTo>
                <a:lnTo>
                  <a:pt x="17117" y="17989"/>
                </a:lnTo>
                <a:lnTo>
                  <a:pt x="21504" y="17989"/>
                </a:lnTo>
                <a:lnTo>
                  <a:pt x="21504" y="10800"/>
                </a:lnTo>
                <a:lnTo>
                  <a:pt x="10886" y="10800"/>
                </a:lnTo>
                <a:lnTo>
                  <a:pt x="10886" y="17989"/>
                </a:lnTo>
                <a:lnTo>
                  <a:pt x="15272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omic Sans MS"/>
              </a:rPr>
              <a:t>Separated by a + or - sig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>
            <a:hlinkClick r:id="" action="ppaction://hlinkshowjump?jump=firstslide"/>
          </p:cNvPr>
          <p:cNvSpPr/>
          <p:nvPr/>
        </p:nvSpPr>
        <p:spPr>
          <a:xfrm>
            <a:off x="8001000" y="6095880"/>
            <a:ext cx="1143000" cy="762120"/>
          </a:xfrm>
          <a:custGeom>
            <a:avLst/>
            <a:gdLst>
              <a:gd name="textAreaLeft" fmla="*/ 49320 w 1143000"/>
              <a:gd name="textAreaRight" fmla="*/ 1093680 w 11430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2390" h="21600">
                <a:moveTo>
                  <a:pt x="0" y="0"/>
                </a:moveTo>
                <a:lnTo>
                  <a:pt x="32390" y="0"/>
                </a:lnTo>
                <a:lnTo>
                  <a:pt x="32390" y="21600"/>
                </a:lnTo>
                <a:lnTo>
                  <a:pt x="0" y="21600"/>
                </a:lnTo>
                <a:close/>
              </a:path>
              <a:path fill="lightenLess" w="32390" h="21600">
                <a:moveTo>
                  <a:pt x="0" y="0"/>
                </a:moveTo>
                <a:lnTo>
                  <a:pt x="32390" y="0"/>
                </a:lnTo>
                <a:lnTo>
                  <a:pt x="30990" y="1400"/>
                </a:lnTo>
                <a:lnTo>
                  <a:pt x="1400" y="1400"/>
                </a:lnTo>
                <a:close/>
              </a:path>
              <a:path fill="darken" w="32390" h="21600">
                <a:moveTo>
                  <a:pt x="32390" y="0"/>
                </a:moveTo>
                <a:lnTo>
                  <a:pt x="32390" y="21600"/>
                </a:lnTo>
                <a:lnTo>
                  <a:pt x="30990" y="20200"/>
                </a:lnTo>
                <a:lnTo>
                  <a:pt x="30990" y="1400"/>
                </a:lnTo>
                <a:close/>
              </a:path>
              <a:path fill="darkenLess" w="32390" h="21600">
                <a:moveTo>
                  <a:pt x="323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0" y="20200"/>
                </a:lnTo>
                <a:close/>
              </a:path>
              <a:path fill="lighten" w="323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0" h="21600">
                <a:moveTo>
                  <a:pt x="16195" y="3837"/>
                </a:moveTo>
                <a:lnTo>
                  <a:pt x="18771" y="6448"/>
                </a:lnTo>
                <a:lnTo>
                  <a:pt x="18771" y="4707"/>
                </a:lnTo>
                <a:lnTo>
                  <a:pt x="20547" y="4707"/>
                </a:lnTo>
                <a:lnTo>
                  <a:pt x="20547" y="8224"/>
                </a:lnTo>
                <a:lnTo>
                  <a:pt x="23158" y="10800"/>
                </a:lnTo>
                <a:lnTo>
                  <a:pt x="21504" y="10800"/>
                </a:lnTo>
                <a:lnTo>
                  <a:pt x="21504" y="17989"/>
                </a:lnTo>
                <a:lnTo>
                  <a:pt x="10886" y="17989"/>
                </a:lnTo>
                <a:lnTo>
                  <a:pt x="10886" y="10800"/>
                </a:lnTo>
                <a:lnTo>
                  <a:pt x="9232" y="10800"/>
                </a:lnTo>
                <a:close/>
              </a:path>
              <a:path fill="darkenLess" w="32390" h="21600">
                <a:moveTo>
                  <a:pt x="18771" y="6448"/>
                </a:moveTo>
                <a:lnTo>
                  <a:pt x="18771" y="4707"/>
                </a:lnTo>
                <a:lnTo>
                  <a:pt x="20547" y="4707"/>
                </a:lnTo>
                <a:lnTo>
                  <a:pt x="20547" y="8224"/>
                </a:lnTo>
                <a:close/>
              </a:path>
              <a:path fill="darkenLess" w="32390" h="21600">
                <a:moveTo>
                  <a:pt x="15272" y="14299"/>
                </a:moveTo>
                <a:lnTo>
                  <a:pt x="17117" y="14299"/>
                </a:lnTo>
                <a:lnTo>
                  <a:pt x="17117" y="17989"/>
                </a:lnTo>
                <a:lnTo>
                  <a:pt x="21504" y="17989"/>
                </a:lnTo>
                <a:lnTo>
                  <a:pt x="21504" y="10800"/>
                </a:lnTo>
                <a:lnTo>
                  <a:pt x="10886" y="10800"/>
                </a:lnTo>
                <a:lnTo>
                  <a:pt x="10886" y="17989"/>
                </a:lnTo>
                <a:lnTo>
                  <a:pt x="15272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omic Sans MS"/>
              </a:rPr>
              <a:t>The result of a division problem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omic Sans MS"/>
              </a:rPr>
              <a:t>(DIVIDE!)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>
            <a:hlinkClick r:id="" action="ppaction://hlinkshowjump?jump=firstslide"/>
          </p:cNvPr>
          <p:cNvSpPr/>
          <p:nvPr/>
        </p:nvSpPr>
        <p:spPr>
          <a:xfrm>
            <a:off x="8001000" y="6095880"/>
            <a:ext cx="1143000" cy="762120"/>
          </a:xfrm>
          <a:custGeom>
            <a:avLst/>
            <a:gdLst>
              <a:gd name="textAreaLeft" fmla="*/ 49320 w 1143000"/>
              <a:gd name="textAreaRight" fmla="*/ 1093680 w 11430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2390" h="21600">
                <a:moveTo>
                  <a:pt x="0" y="0"/>
                </a:moveTo>
                <a:lnTo>
                  <a:pt x="32390" y="0"/>
                </a:lnTo>
                <a:lnTo>
                  <a:pt x="32390" y="21600"/>
                </a:lnTo>
                <a:lnTo>
                  <a:pt x="0" y="21600"/>
                </a:lnTo>
                <a:close/>
              </a:path>
              <a:path fill="lightenLess" w="32390" h="21600">
                <a:moveTo>
                  <a:pt x="0" y="0"/>
                </a:moveTo>
                <a:lnTo>
                  <a:pt x="32390" y="0"/>
                </a:lnTo>
                <a:lnTo>
                  <a:pt x="30990" y="1400"/>
                </a:lnTo>
                <a:lnTo>
                  <a:pt x="1400" y="1400"/>
                </a:lnTo>
                <a:close/>
              </a:path>
              <a:path fill="darken" w="32390" h="21600">
                <a:moveTo>
                  <a:pt x="32390" y="0"/>
                </a:moveTo>
                <a:lnTo>
                  <a:pt x="32390" y="21600"/>
                </a:lnTo>
                <a:lnTo>
                  <a:pt x="30990" y="20200"/>
                </a:lnTo>
                <a:lnTo>
                  <a:pt x="30990" y="1400"/>
                </a:lnTo>
                <a:close/>
              </a:path>
              <a:path fill="darkenLess" w="32390" h="21600">
                <a:moveTo>
                  <a:pt x="323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0" y="20200"/>
                </a:lnTo>
                <a:close/>
              </a:path>
              <a:path fill="lighten" w="323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0" h="21600">
                <a:moveTo>
                  <a:pt x="16195" y="3837"/>
                </a:moveTo>
                <a:lnTo>
                  <a:pt x="18771" y="6448"/>
                </a:lnTo>
                <a:lnTo>
                  <a:pt x="18771" y="4707"/>
                </a:lnTo>
                <a:lnTo>
                  <a:pt x="20547" y="4707"/>
                </a:lnTo>
                <a:lnTo>
                  <a:pt x="20547" y="8224"/>
                </a:lnTo>
                <a:lnTo>
                  <a:pt x="23158" y="10800"/>
                </a:lnTo>
                <a:lnTo>
                  <a:pt x="21504" y="10800"/>
                </a:lnTo>
                <a:lnTo>
                  <a:pt x="21504" y="17989"/>
                </a:lnTo>
                <a:lnTo>
                  <a:pt x="10886" y="17989"/>
                </a:lnTo>
                <a:lnTo>
                  <a:pt x="10886" y="10800"/>
                </a:lnTo>
                <a:lnTo>
                  <a:pt x="9232" y="10800"/>
                </a:lnTo>
                <a:close/>
              </a:path>
              <a:path fill="darkenLess" w="32390" h="21600">
                <a:moveTo>
                  <a:pt x="18771" y="6448"/>
                </a:moveTo>
                <a:lnTo>
                  <a:pt x="18771" y="4707"/>
                </a:lnTo>
                <a:lnTo>
                  <a:pt x="20547" y="4707"/>
                </a:lnTo>
                <a:lnTo>
                  <a:pt x="20547" y="8224"/>
                </a:lnTo>
                <a:close/>
              </a:path>
              <a:path fill="darkenLess" w="32390" h="21600">
                <a:moveTo>
                  <a:pt x="15272" y="14299"/>
                </a:moveTo>
                <a:lnTo>
                  <a:pt x="17117" y="14299"/>
                </a:lnTo>
                <a:lnTo>
                  <a:pt x="17117" y="17989"/>
                </a:lnTo>
                <a:lnTo>
                  <a:pt x="21504" y="17989"/>
                </a:lnTo>
                <a:lnTo>
                  <a:pt x="21504" y="10800"/>
                </a:lnTo>
                <a:lnTo>
                  <a:pt x="10886" y="10800"/>
                </a:lnTo>
                <a:lnTo>
                  <a:pt x="10886" y="17989"/>
                </a:lnTo>
                <a:lnTo>
                  <a:pt x="15272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omic Sans MS"/>
              </a:rPr>
              <a:t>The result of a multiplication problem (MULTIPLY!)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>
            <a:hlinkClick r:id="" action="ppaction://hlinkshowjump?jump=firstslide"/>
          </p:cNvPr>
          <p:cNvSpPr/>
          <p:nvPr/>
        </p:nvSpPr>
        <p:spPr>
          <a:xfrm>
            <a:off x="8001000" y="6095880"/>
            <a:ext cx="1143000" cy="762120"/>
          </a:xfrm>
          <a:custGeom>
            <a:avLst/>
            <a:gdLst>
              <a:gd name="textAreaLeft" fmla="*/ 49320 w 1143000"/>
              <a:gd name="textAreaRight" fmla="*/ 1093680 w 11430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2390" h="21600">
                <a:moveTo>
                  <a:pt x="0" y="0"/>
                </a:moveTo>
                <a:lnTo>
                  <a:pt x="32390" y="0"/>
                </a:lnTo>
                <a:lnTo>
                  <a:pt x="32390" y="21600"/>
                </a:lnTo>
                <a:lnTo>
                  <a:pt x="0" y="21600"/>
                </a:lnTo>
                <a:close/>
              </a:path>
              <a:path fill="lightenLess" w="32390" h="21600">
                <a:moveTo>
                  <a:pt x="0" y="0"/>
                </a:moveTo>
                <a:lnTo>
                  <a:pt x="32390" y="0"/>
                </a:lnTo>
                <a:lnTo>
                  <a:pt x="30990" y="1400"/>
                </a:lnTo>
                <a:lnTo>
                  <a:pt x="1400" y="1400"/>
                </a:lnTo>
                <a:close/>
              </a:path>
              <a:path fill="darken" w="32390" h="21600">
                <a:moveTo>
                  <a:pt x="32390" y="0"/>
                </a:moveTo>
                <a:lnTo>
                  <a:pt x="32390" y="21600"/>
                </a:lnTo>
                <a:lnTo>
                  <a:pt x="30990" y="20200"/>
                </a:lnTo>
                <a:lnTo>
                  <a:pt x="30990" y="1400"/>
                </a:lnTo>
                <a:close/>
              </a:path>
              <a:path fill="darkenLess" w="32390" h="21600">
                <a:moveTo>
                  <a:pt x="323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0" y="20200"/>
                </a:lnTo>
                <a:close/>
              </a:path>
              <a:path fill="lighten" w="323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0" h="21600">
                <a:moveTo>
                  <a:pt x="16195" y="3837"/>
                </a:moveTo>
                <a:lnTo>
                  <a:pt x="18771" y="6448"/>
                </a:lnTo>
                <a:lnTo>
                  <a:pt x="18771" y="4707"/>
                </a:lnTo>
                <a:lnTo>
                  <a:pt x="20547" y="4707"/>
                </a:lnTo>
                <a:lnTo>
                  <a:pt x="20547" y="8224"/>
                </a:lnTo>
                <a:lnTo>
                  <a:pt x="23158" y="10800"/>
                </a:lnTo>
                <a:lnTo>
                  <a:pt x="21504" y="10800"/>
                </a:lnTo>
                <a:lnTo>
                  <a:pt x="21504" y="17989"/>
                </a:lnTo>
                <a:lnTo>
                  <a:pt x="10886" y="17989"/>
                </a:lnTo>
                <a:lnTo>
                  <a:pt x="10886" y="10800"/>
                </a:lnTo>
                <a:lnTo>
                  <a:pt x="9232" y="10800"/>
                </a:lnTo>
                <a:close/>
              </a:path>
              <a:path fill="darkenLess" w="32390" h="21600">
                <a:moveTo>
                  <a:pt x="18771" y="6448"/>
                </a:moveTo>
                <a:lnTo>
                  <a:pt x="18771" y="4707"/>
                </a:lnTo>
                <a:lnTo>
                  <a:pt x="20547" y="4707"/>
                </a:lnTo>
                <a:lnTo>
                  <a:pt x="20547" y="8224"/>
                </a:lnTo>
                <a:close/>
              </a:path>
              <a:path fill="darkenLess" w="32390" h="21600">
                <a:moveTo>
                  <a:pt x="15272" y="14299"/>
                </a:moveTo>
                <a:lnTo>
                  <a:pt x="17117" y="14299"/>
                </a:lnTo>
                <a:lnTo>
                  <a:pt x="17117" y="17989"/>
                </a:lnTo>
                <a:lnTo>
                  <a:pt x="21504" y="17989"/>
                </a:lnTo>
                <a:lnTo>
                  <a:pt x="21504" y="10800"/>
                </a:lnTo>
                <a:lnTo>
                  <a:pt x="10886" y="10800"/>
                </a:lnTo>
                <a:lnTo>
                  <a:pt x="10886" y="17989"/>
                </a:lnTo>
                <a:lnTo>
                  <a:pt x="15272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omic Sans MS"/>
              </a:rPr>
              <a:t>Coefficien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>
            <a:hlinkClick r:id="" action="ppaction://hlinkshowjump?jump=firstslide"/>
          </p:cNvPr>
          <p:cNvSpPr/>
          <p:nvPr/>
        </p:nvSpPr>
        <p:spPr>
          <a:xfrm>
            <a:off x="8001000" y="6095880"/>
            <a:ext cx="1143000" cy="762120"/>
          </a:xfrm>
          <a:custGeom>
            <a:avLst/>
            <a:gdLst>
              <a:gd name="textAreaLeft" fmla="*/ 49320 w 1143000"/>
              <a:gd name="textAreaRight" fmla="*/ 1093680 w 11430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2390" h="21600">
                <a:moveTo>
                  <a:pt x="0" y="0"/>
                </a:moveTo>
                <a:lnTo>
                  <a:pt x="32390" y="0"/>
                </a:lnTo>
                <a:lnTo>
                  <a:pt x="32390" y="21600"/>
                </a:lnTo>
                <a:lnTo>
                  <a:pt x="0" y="21600"/>
                </a:lnTo>
                <a:close/>
              </a:path>
              <a:path fill="lightenLess" w="32390" h="21600">
                <a:moveTo>
                  <a:pt x="0" y="0"/>
                </a:moveTo>
                <a:lnTo>
                  <a:pt x="32390" y="0"/>
                </a:lnTo>
                <a:lnTo>
                  <a:pt x="30990" y="1400"/>
                </a:lnTo>
                <a:lnTo>
                  <a:pt x="1400" y="1400"/>
                </a:lnTo>
                <a:close/>
              </a:path>
              <a:path fill="darken" w="32390" h="21600">
                <a:moveTo>
                  <a:pt x="32390" y="0"/>
                </a:moveTo>
                <a:lnTo>
                  <a:pt x="32390" y="21600"/>
                </a:lnTo>
                <a:lnTo>
                  <a:pt x="30990" y="20200"/>
                </a:lnTo>
                <a:lnTo>
                  <a:pt x="30990" y="1400"/>
                </a:lnTo>
                <a:close/>
              </a:path>
              <a:path fill="darkenLess" w="32390" h="21600">
                <a:moveTo>
                  <a:pt x="323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0" y="20200"/>
                </a:lnTo>
                <a:close/>
              </a:path>
              <a:path fill="lighten" w="323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0" h="21600">
                <a:moveTo>
                  <a:pt x="16195" y="3837"/>
                </a:moveTo>
                <a:lnTo>
                  <a:pt x="18771" y="6448"/>
                </a:lnTo>
                <a:lnTo>
                  <a:pt x="18771" y="4707"/>
                </a:lnTo>
                <a:lnTo>
                  <a:pt x="20547" y="4707"/>
                </a:lnTo>
                <a:lnTo>
                  <a:pt x="20547" y="8224"/>
                </a:lnTo>
                <a:lnTo>
                  <a:pt x="23158" y="10800"/>
                </a:lnTo>
                <a:lnTo>
                  <a:pt x="21504" y="10800"/>
                </a:lnTo>
                <a:lnTo>
                  <a:pt x="21504" y="17989"/>
                </a:lnTo>
                <a:lnTo>
                  <a:pt x="10886" y="17989"/>
                </a:lnTo>
                <a:lnTo>
                  <a:pt x="10886" y="10800"/>
                </a:lnTo>
                <a:lnTo>
                  <a:pt x="9232" y="10800"/>
                </a:lnTo>
                <a:close/>
              </a:path>
              <a:path fill="darkenLess" w="32390" h="21600">
                <a:moveTo>
                  <a:pt x="18771" y="6448"/>
                </a:moveTo>
                <a:lnTo>
                  <a:pt x="18771" y="4707"/>
                </a:lnTo>
                <a:lnTo>
                  <a:pt x="20547" y="4707"/>
                </a:lnTo>
                <a:lnTo>
                  <a:pt x="20547" y="8224"/>
                </a:lnTo>
                <a:close/>
              </a:path>
              <a:path fill="darkenLess" w="32390" h="21600">
                <a:moveTo>
                  <a:pt x="15272" y="14299"/>
                </a:moveTo>
                <a:lnTo>
                  <a:pt x="17117" y="14299"/>
                </a:lnTo>
                <a:lnTo>
                  <a:pt x="17117" y="17989"/>
                </a:lnTo>
                <a:lnTo>
                  <a:pt x="21504" y="17989"/>
                </a:lnTo>
                <a:lnTo>
                  <a:pt x="21504" y="10800"/>
                </a:lnTo>
                <a:lnTo>
                  <a:pt x="10886" y="10800"/>
                </a:lnTo>
                <a:lnTo>
                  <a:pt x="10886" y="17989"/>
                </a:lnTo>
                <a:lnTo>
                  <a:pt x="15272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omic Sans MS"/>
              </a:rPr>
              <a:t>Has “exactly” three term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>
            <a:hlinkClick r:id="" action="ppaction://hlinkshowjump?jump=firstslide"/>
          </p:cNvPr>
          <p:cNvSpPr/>
          <p:nvPr/>
        </p:nvSpPr>
        <p:spPr>
          <a:xfrm>
            <a:off x="8001000" y="6095880"/>
            <a:ext cx="1143000" cy="762120"/>
          </a:xfrm>
          <a:custGeom>
            <a:avLst/>
            <a:gdLst>
              <a:gd name="textAreaLeft" fmla="*/ 49320 w 1143000"/>
              <a:gd name="textAreaRight" fmla="*/ 1093680 w 11430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2390" h="21600">
                <a:moveTo>
                  <a:pt x="0" y="0"/>
                </a:moveTo>
                <a:lnTo>
                  <a:pt x="32390" y="0"/>
                </a:lnTo>
                <a:lnTo>
                  <a:pt x="32390" y="21600"/>
                </a:lnTo>
                <a:lnTo>
                  <a:pt x="0" y="21600"/>
                </a:lnTo>
                <a:close/>
              </a:path>
              <a:path fill="lightenLess" w="32390" h="21600">
                <a:moveTo>
                  <a:pt x="0" y="0"/>
                </a:moveTo>
                <a:lnTo>
                  <a:pt x="32390" y="0"/>
                </a:lnTo>
                <a:lnTo>
                  <a:pt x="30990" y="1400"/>
                </a:lnTo>
                <a:lnTo>
                  <a:pt x="1400" y="1400"/>
                </a:lnTo>
                <a:close/>
              </a:path>
              <a:path fill="darken" w="32390" h="21600">
                <a:moveTo>
                  <a:pt x="32390" y="0"/>
                </a:moveTo>
                <a:lnTo>
                  <a:pt x="32390" y="21600"/>
                </a:lnTo>
                <a:lnTo>
                  <a:pt x="30990" y="20200"/>
                </a:lnTo>
                <a:lnTo>
                  <a:pt x="30990" y="1400"/>
                </a:lnTo>
                <a:close/>
              </a:path>
              <a:path fill="darkenLess" w="32390" h="21600">
                <a:moveTo>
                  <a:pt x="323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0" y="20200"/>
                </a:lnTo>
                <a:close/>
              </a:path>
              <a:path fill="lighten" w="323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0" h="21600">
                <a:moveTo>
                  <a:pt x="16195" y="3837"/>
                </a:moveTo>
                <a:lnTo>
                  <a:pt x="18771" y="6448"/>
                </a:lnTo>
                <a:lnTo>
                  <a:pt x="18771" y="4707"/>
                </a:lnTo>
                <a:lnTo>
                  <a:pt x="20547" y="4707"/>
                </a:lnTo>
                <a:lnTo>
                  <a:pt x="20547" y="8224"/>
                </a:lnTo>
                <a:lnTo>
                  <a:pt x="23158" y="10800"/>
                </a:lnTo>
                <a:lnTo>
                  <a:pt x="21504" y="10800"/>
                </a:lnTo>
                <a:lnTo>
                  <a:pt x="21504" y="17989"/>
                </a:lnTo>
                <a:lnTo>
                  <a:pt x="10886" y="17989"/>
                </a:lnTo>
                <a:lnTo>
                  <a:pt x="10886" y="10800"/>
                </a:lnTo>
                <a:lnTo>
                  <a:pt x="9232" y="10800"/>
                </a:lnTo>
                <a:close/>
              </a:path>
              <a:path fill="darkenLess" w="32390" h="21600">
                <a:moveTo>
                  <a:pt x="18771" y="6448"/>
                </a:moveTo>
                <a:lnTo>
                  <a:pt x="18771" y="4707"/>
                </a:lnTo>
                <a:lnTo>
                  <a:pt x="20547" y="4707"/>
                </a:lnTo>
                <a:lnTo>
                  <a:pt x="20547" y="8224"/>
                </a:lnTo>
                <a:close/>
              </a:path>
              <a:path fill="darkenLess" w="32390" h="21600">
                <a:moveTo>
                  <a:pt x="15272" y="14299"/>
                </a:moveTo>
                <a:lnTo>
                  <a:pt x="17117" y="14299"/>
                </a:lnTo>
                <a:lnTo>
                  <a:pt x="17117" y="17989"/>
                </a:lnTo>
                <a:lnTo>
                  <a:pt x="21504" y="17989"/>
                </a:lnTo>
                <a:lnTo>
                  <a:pt x="21504" y="10800"/>
                </a:lnTo>
                <a:lnTo>
                  <a:pt x="10886" y="10800"/>
                </a:lnTo>
                <a:lnTo>
                  <a:pt x="10886" y="17989"/>
                </a:lnTo>
                <a:lnTo>
                  <a:pt x="15272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omic Sans MS"/>
              </a:rPr>
              <a:t>Trinomial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>
            <a:hlinkClick r:id="" action="ppaction://hlinkshowjump?jump=firstslide"/>
          </p:cNvPr>
          <p:cNvSpPr/>
          <p:nvPr/>
        </p:nvSpPr>
        <p:spPr>
          <a:xfrm>
            <a:off x="8001000" y="6095880"/>
            <a:ext cx="1143000" cy="762120"/>
          </a:xfrm>
          <a:custGeom>
            <a:avLst/>
            <a:gdLst>
              <a:gd name="textAreaLeft" fmla="*/ 49320 w 1143000"/>
              <a:gd name="textAreaRight" fmla="*/ 1093680 w 11430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2390" h="21600">
                <a:moveTo>
                  <a:pt x="0" y="0"/>
                </a:moveTo>
                <a:lnTo>
                  <a:pt x="32390" y="0"/>
                </a:lnTo>
                <a:lnTo>
                  <a:pt x="32390" y="21600"/>
                </a:lnTo>
                <a:lnTo>
                  <a:pt x="0" y="21600"/>
                </a:lnTo>
                <a:close/>
              </a:path>
              <a:path fill="lightenLess" w="32390" h="21600">
                <a:moveTo>
                  <a:pt x="0" y="0"/>
                </a:moveTo>
                <a:lnTo>
                  <a:pt x="32390" y="0"/>
                </a:lnTo>
                <a:lnTo>
                  <a:pt x="30990" y="1400"/>
                </a:lnTo>
                <a:lnTo>
                  <a:pt x="1400" y="1400"/>
                </a:lnTo>
                <a:close/>
              </a:path>
              <a:path fill="darken" w="32390" h="21600">
                <a:moveTo>
                  <a:pt x="32390" y="0"/>
                </a:moveTo>
                <a:lnTo>
                  <a:pt x="32390" y="21600"/>
                </a:lnTo>
                <a:lnTo>
                  <a:pt x="30990" y="20200"/>
                </a:lnTo>
                <a:lnTo>
                  <a:pt x="30990" y="1400"/>
                </a:lnTo>
                <a:close/>
              </a:path>
              <a:path fill="darkenLess" w="32390" h="21600">
                <a:moveTo>
                  <a:pt x="323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0" y="20200"/>
                </a:lnTo>
                <a:close/>
              </a:path>
              <a:path fill="lighten" w="323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0" h="21600">
                <a:moveTo>
                  <a:pt x="16195" y="3837"/>
                </a:moveTo>
                <a:lnTo>
                  <a:pt x="18771" y="6448"/>
                </a:lnTo>
                <a:lnTo>
                  <a:pt x="18771" y="4707"/>
                </a:lnTo>
                <a:lnTo>
                  <a:pt x="20547" y="4707"/>
                </a:lnTo>
                <a:lnTo>
                  <a:pt x="20547" y="8224"/>
                </a:lnTo>
                <a:lnTo>
                  <a:pt x="23158" y="10800"/>
                </a:lnTo>
                <a:lnTo>
                  <a:pt x="21504" y="10800"/>
                </a:lnTo>
                <a:lnTo>
                  <a:pt x="21504" y="17989"/>
                </a:lnTo>
                <a:lnTo>
                  <a:pt x="10886" y="17989"/>
                </a:lnTo>
                <a:lnTo>
                  <a:pt x="10886" y="10800"/>
                </a:lnTo>
                <a:lnTo>
                  <a:pt x="9232" y="10800"/>
                </a:lnTo>
                <a:close/>
              </a:path>
              <a:path fill="darkenLess" w="32390" h="21600">
                <a:moveTo>
                  <a:pt x="18771" y="6448"/>
                </a:moveTo>
                <a:lnTo>
                  <a:pt x="18771" y="4707"/>
                </a:lnTo>
                <a:lnTo>
                  <a:pt x="20547" y="4707"/>
                </a:lnTo>
                <a:lnTo>
                  <a:pt x="20547" y="8224"/>
                </a:lnTo>
                <a:close/>
              </a:path>
              <a:path fill="darkenLess" w="32390" h="21600">
                <a:moveTo>
                  <a:pt x="15272" y="14299"/>
                </a:moveTo>
                <a:lnTo>
                  <a:pt x="17117" y="14299"/>
                </a:lnTo>
                <a:lnTo>
                  <a:pt x="17117" y="17989"/>
                </a:lnTo>
                <a:lnTo>
                  <a:pt x="21504" y="17989"/>
                </a:lnTo>
                <a:lnTo>
                  <a:pt x="21504" y="10800"/>
                </a:lnTo>
                <a:lnTo>
                  <a:pt x="10886" y="10800"/>
                </a:lnTo>
                <a:lnTo>
                  <a:pt x="10886" y="17989"/>
                </a:lnTo>
                <a:lnTo>
                  <a:pt x="15272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omic Sans MS"/>
              </a:rPr>
              <a:t>To find the value of an expressio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>
            <a:hlinkClick r:id="" action="ppaction://hlinkshowjump?jump=firstslide"/>
          </p:cNvPr>
          <p:cNvSpPr/>
          <p:nvPr/>
        </p:nvSpPr>
        <p:spPr>
          <a:xfrm>
            <a:off x="8001000" y="6095880"/>
            <a:ext cx="1143000" cy="762120"/>
          </a:xfrm>
          <a:custGeom>
            <a:avLst/>
            <a:gdLst>
              <a:gd name="textAreaLeft" fmla="*/ 49320 w 1143000"/>
              <a:gd name="textAreaRight" fmla="*/ 1093680 w 11430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2390" h="21600">
                <a:moveTo>
                  <a:pt x="0" y="0"/>
                </a:moveTo>
                <a:lnTo>
                  <a:pt x="32390" y="0"/>
                </a:lnTo>
                <a:lnTo>
                  <a:pt x="32390" y="21600"/>
                </a:lnTo>
                <a:lnTo>
                  <a:pt x="0" y="21600"/>
                </a:lnTo>
                <a:close/>
              </a:path>
              <a:path fill="lightenLess" w="32390" h="21600">
                <a:moveTo>
                  <a:pt x="0" y="0"/>
                </a:moveTo>
                <a:lnTo>
                  <a:pt x="32390" y="0"/>
                </a:lnTo>
                <a:lnTo>
                  <a:pt x="30990" y="1400"/>
                </a:lnTo>
                <a:lnTo>
                  <a:pt x="1400" y="1400"/>
                </a:lnTo>
                <a:close/>
              </a:path>
              <a:path fill="darken" w="32390" h="21600">
                <a:moveTo>
                  <a:pt x="32390" y="0"/>
                </a:moveTo>
                <a:lnTo>
                  <a:pt x="32390" y="21600"/>
                </a:lnTo>
                <a:lnTo>
                  <a:pt x="30990" y="20200"/>
                </a:lnTo>
                <a:lnTo>
                  <a:pt x="30990" y="1400"/>
                </a:lnTo>
                <a:close/>
              </a:path>
              <a:path fill="darkenLess" w="32390" h="21600">
                <a:moveTo>
                  <a:pt x="323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0" y="20200"/>
                </a:lnTo>
                <a:close/>
              </a:path>
              <a:path fill="lighten" w="323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0" h="21600">
                <a:moveTo>
                  <a:pt x="16195" y="3837"/>
                </a:moveTo>
                <a:lnTo>
                  <a:pt x="18771" y="6448"/>
                </a:lnTo>
                <a:lnTo>
                  <a:pt x="18771" y="4707"/>
                </a:lnTo>
                <a:lnTo>
                  <a:pt x="20547" y="4707"/>
                </a:lnTo>
                <a:lnTo>
                  <a:pt x="20547" y="8224"/>
                </a:lnTo>
                <a:lnTo>
                  <a:pt x="23158" y="10800"/>
                </a:lnTo>
                <a:lnTo>
                  <a:pt x="21504" y="10800"/>
                </a:lnTo>
                <a:lnTo>
                  <a:pt x="21504" y="17989"/>
                </a:lnTo>
                <a:lnTo>
                  <a:pt x="10886" y="17989"/>
                </a:lnTo>
                <a:lnTo>
                  <a:pt x="10886" y="10800"/>
                </a:lnTo>
                <a:lnTo>
                  <a:pt x="9232" y="10800"/>
                </a:lnTo>
                <a:close/>
              </a:path>
              <a:path fill="darkenLess" w="32390" h="21600">
                <a:moveTo>
                  <a:pt x="18771" y="6448"/>
                </a:moveTo>
                <a:lnTo>
                  <a:pt x="18771" y="4707"/>
                </a:lnTo>
                <a:lnTo>
                  <a:pt x="20547" y="4707"/>
                </a:lnTo>
                <a:lnTo>
                  <a:pt x="20547" y="8224"/>
                </a:lnTo>
                <a:close/>
              </a:path>
              <a:path fill="darkenLess" w="32390" h="21600">
                <a:moveTo>
                  <a:pt x="15272" y="14299"/>
                </a:moveTo>
                <a:lnTo>
                  <a:pt x="17117" y="14299"/>
                </a:lnTo>
                <a:lnTo>
                  <a:pt x="17117" y="17989"/>
                </a:lnTo>
                <a:lnTo>
                  <a:pt x="21504" y="17989"/>
                </a:lnTo>
                <a:lnTo>
                  <a:pt x="21504" y="10800"/>
                </a:lnTo>
                <a:lnTo>
                  <a:pt x="10886" y="10800"/>
                </a:lnTo>
                <a:lnTo>
                  <a:pt x="10886" y="17989"/>
                </a:lnTo>
                <a:lnTo>
                  <a:pt x="15272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omic Sans MS"/>
              </a:rPr>
              <a:t>Sum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>
            <a:hlinkClick r:id="" action="ppaction://hlinkshowjump?jump=firstslide"/>
          </p:cNvPr>
          <p:cNvSpPr/>
          <p:nvPr/>
        </p:nvSpPr>
        <p:spPr>
          <a:xfrm>
            <a:off x="8001000" y="6095880"/>
            <a:ext cx="1143000" cy="762120"/>
          </a:xfrm>
          <a:custGeom>
            <a:avLst/>
            <a:gdLst>
              <a:gd name="textAreaLeft" fmla="*/ 49320 w 1143000"/>
              <a:gd name="textAreaRight" fmla="*/ 1093680 w 11430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2390" h="21600">
                <a:moveTo>
                  <a:pt x="0" y="0"/>
                </a:moveTo>
                <a:lnTo>
                  <a:pt x="32390" y="0"/>
                </a:lnTo>
                <a:lnTo>
                  <a:pt x="32390" y="21600"/>
                </a:lnTo>
                <a:lnTo>
                  <a:pt x="0" y="21600"/>
                </a:lnTo>
                <a:close/>
              </a:path>
              <a:path fill="lightenLess" w="32390" h="21600">
                <a:moveTo>
                  <a:pt x="0" y="0"/>
                </a:moveTo>
                <a:lnTo>
                  <a:pt x="32390" y="0"/>
                </a:lnTo>
                <a:lnTo>
                  <a:pt x="30990" y="1400"/>
                </a:lnTo>
                <a:lnTo>
                  <a:pt x="1400" y="1400"/>
                </a:lnTo>
                <a:close/>
              </a:path>
              <a:path fill="darken" w="32390" h="21600">
                <a:moveTo>
                  <a:pt x="32390" y="0"/>
                </a:moveTo>
                <a:lnTo>
                  <a:pt x="32390" y="21600"/>
                </a:lnTo>
                <a:lnTo>
                  <a:pt x="30990" y="20200"/>
                </a:lnTo>
                <a:lnTo>
                  <a:pt x="30990" y="1400"/>
                </a:lnTo>
                <a:close/>
              </a:path>
              <a:path fill="darkenLess" w="32390" h="21600">
                <a:moveTo>
                  <a:pt x="323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0" y="20200"/>
                </a:lnTo>
                <a:close/>
              </a:path>
              <a:path fill="lighten" w="323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0" h="21600">
                <a:moveTo>
                  <a:pt x="16195" y="3837"/>
                </a:moveTo>
                <a:lnTo>
                  <a:pt x="18771" y="6448"/>
                </a:lnTo>
                <a:lnTo>
                  <a:pt x="18771" y="4707"/>
                </a:lnTo>
                <a:lnTo>
                  <a:pt x="20547" y="4707"/>
                </a:lnTo>
                <a:lnTo>
                  <a:pt x="20547" y="8224"/>
                </a:lnTo>
                <a:lnTo>
                  <a:pt x="23158" y="10800"/>
                </a:lnTo>
                <a:lnTo>
                  <a:pt x="21504" y="10800"/>
                </a:lnTo>
                <a:lnTo>
                  <a:pt x="21504" y="17989"/>
                </a:lnTo>
                <a:lnTo>
                  <a:pt x="10886" y="17989"/>
                </a:lnTo>
                <a:lnTo>
                  <a:pt x="10886" y="10800"/>
                </a:lnTo>
                <a:lnTo>
                  <a:pt x="9232" y="10800"/>
                </a:lnTo>
                <a:close/>
              </a:path>
              <a:path fill="darkenLess" w="32390" h="21600">
                <a:moveTo>
                  <a:pt x="18771" y="6448"/>
                </a:moveTo>
                <a:lnTo>
                  <a:pt x="18771" y="4707"/>
                </a:lnTo>
                <a:lnTo>
                  <a:pt x="20547" y="4707"/>
                </a:lnTo>
                <a:lnTo>
                  <a:pt x="20547" y="8224"/>
                </a:lnTo>
                <a:close/>
              </a:path>
              <a:path fill="darkenLess" w="32390" h="21600">
                <a:moveTo>
                  <a:pt x="15272" y="14299"/>
                </a:moveTo>
                <a:lnTo>
                  <a:pt x="17117" y="14299"/>
                </a:lnTo>
                <a:lnTo>
                  <a:pt x="17117" y="17989"/>
                </a:lnTo>
                <a:lnTo>
                  <a:pt x="21504" y="17989"/>
                </a:lnTo>
                <a:lnTo>
                  <a:pt x="21504" y="10800"/>
                </a:lnTo>
                <a:lnTo>
                  <a:pt x="10886" y="10800"/>
                </a:lnTo>
                <a:lnTo>
                  <a:pt x="10886" y="17989"/>
                </a:lnTo>
                <a:lnTo>
                  <a:pt x="15272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omic Sans MS"/>
              </a:rPr>
              <a:t>Binomial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>
            <a:hlinkClick r:id="" action="ppaction://hlinkshowjump?jump=firstslide"/>
          </p:cNvPr>
          <p:cNvSpPr/>
          <p:nvPr/>
        </p:nvSpPr>
        <p:spPr>
          <a:xfrm>
            <a:off x="8001000" y="6095880"/>
            <a:ext cx="1143000" cy="762120"/>
          </a:xfrm>
          <a:custGeom>
            <a:avLst/>
            <a:gdLst>
              <a:gd name="textAreaLeft" fmla="*/ 49320 w 1143000"/>
              <a:gd name="textAreaRight" fmla="*/ 1093680 w 11430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2390" h="21600">
                <a:moveTo>
                  <a:pt x="0" y="0"/>
                </a:moveTo>
                <a:lnTo>
                  <a:pt x="32390" y="0"/>
                </a:lnTo>
                <a:lnTo>
                  <a:pt x="32390" y="21600"/>
                </a:lnTo>
                <a:lnTo>
                  <a:pt x="0" y="21600"/>
                </a:lnTo>
                <a:close/>
              </a:path>
              <a:path fill="lightenLess" w="32390" h="21600">
                <a:moveTo>
                  <a:pt x="0" y="0"/>
                </a:moveTo>
                <a:lnTo>
                  <a:pt x="32390" y="0"/>
                </a:lnTo>
                <a:lnTo>
                  <a:pt x="30990" y="1400"/>
                </a:lnTo>
                <a:lnTo>
                  <a:pt x="1400" y="1400"/>
                </a:lnTo>
                <a:close/>
              </a:path>
              <a:path fill="darken" w="32390" h="21600">
                <a:moveTo>
                  <a:pt x="32390" y="0"/>
                </a:moveTo>
                <a:lnTo>
                  <a:pt x="32390" y="21600"/>
                </a:lnTo>
                <a:lnTo>
                  <a:pt x="30990" y="20200"/>
                </a:lnTo>
                <a:lnTo>
                  <a:pt x="30990" y="1400"/>
                </a:lnTo>
                <a:close/>
              </a:path>
              <a:path fill="darkenLess" w="32390" h="21600">
                <a:moveTo>
                  <a:pt x="323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0" y="20200"/>
                </a:lnTo>
                <a:close/>
              </a:path>
              <a:path fill="lighten" w="323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0" h="21600">
                <a:moveTo>
                  <a:pt x="16195" y="3837"/>
                </a:moveTo>
                <a:lnTo>
                  <a:pt x="18771" y="6448"/>
                </a:lnTo>
                <a:lnTo>
                  <a:pt x="18771" y="4707"/>
                </a:lnTo>
                <a:lnTo>
                  <a:pt x="20547" y="4707"/>
                </a:lnTo>
                <a:lnTo>
                  <a:pt x="20547" y="8224"/>
                </a:lnTo>
                <a:lnTo>
                  <a:pt x="23158" y="10800"/>
                </a:lnTo>
                <a:lnTo>
                  <a:pt x="21504" y="10800"/>
                </a:lnTo>
                <a:lnTo>
                  <a:pt x="21504" y="17989"/>
                </a:lnTo>
                <a:lnTo>
                  <a:pt x="10886" y="17989"/>
                </a:lnTo>
                <a:lnTo>
                  <a:pt x="10886" y="10800"/>
                </a:lnTo>
                <a:lnTo>
                  <a:pt x="9232" y="10800"/>
                </a:lnTo>
                <a:close/>
              </a:path>
              <a:path fill="darkenLess" w="32390" h="21600">
                <a:moveTo>
                  <a:pt x="18771" y="6448"/>
                </a:moveTo>
                <a:lnTo>
                  <a:pt x="18771" y="4707"/>
                </a:lnTo>
                <a:lnTo>
                  <a:pt x="20547" y="4707"/>
                </a:lnTo>
                <a:lnTo>
                  <a:pt x="20547" y="8224"/>
                </a:lnTo>
                <a:close/>
              </a:path>
              <a:path fill="darkenLess" w="32390" h="21600">
                <a:moveTo>
                  <a:pt x="15272" y="14299"/>
                </a:moveTo>
                <a:lnTo>
                  <a:pt x="17117" y="14299"/>
                </a:lnTo>
                <a:lnTo>
                  <a:pt x="17117" y="17989"/>
                </a:lnTo>
                <a:lnTo>
                  <a:pt x="21504" y="17989"/>
                </a:lnTo>
                <a:lnTo>
                  <a:pt x="21504" y="10800"/>
                </a:lnTo>
                <a:lnTo>
                  <a:pt x="10886" y="10800"/>
                </a:lnTo>
                <a:lnTo>
                  <a:pt x="10886" y="17989"/>
                </a:lnTo>
                <a:lnTo>
                  <a:pt x="15272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1" lang="en-US" sz="6600" spc="-1" strike="noStrike">
                <a:solidFill>
                  <a:srgbClr val="000000"/>
                </a:solidFill>
                <a:latin typeface="Comic Sans MS"/>
              </a:rPr>
              <a:t>Like”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omic Sans MS"/>
              </a:rPr>
              <a:t>Term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>
            <a:hlinkClick r:id="" action="ppaction://hlinkshowjump?jump=firstslide"/>
          </p:cNvPr>
          <p:cNvSpPr/>
          <p:nvPr/>
        </p:nvSpPr>
        <p:spPr>
          <a:xfrm>
            <a:off x="8001000" y="6095880"/>
            <a:ext cx="1143000" cy="762120"/>
          </a:xfrm>
          <a:custGeom>
            <a:avLst/>
            <a:gdLst>
              <a:gd name="textAreaLeft" fmla="*/ 49320 w 1143000"/>
              <a:gd name="textAreaRight" fmla="*/ 1093680 w 11430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2390" h="21600">
                <a:moveTo>
                  <a:pt x="0" y="0"/>
                </a:moveTo>
                <a:lnTo>
                  <a:pt x="32390" y="0"/>
                </a:lnTo>
                <a:lnTo>
                  <a:pt x="32390" y="21600"/>
                </a:lnTo>
                <a:lnTo>
                  <a:pt x="0" y="21600"/>
                </a:lnTo>
                <a:close/>
              </a:path>
              <a:path fill="lightenLess" w="32390" h="21600">
                <a:moveTo>
                  <a:pt x="0" y="0"/>
                </a:moveTo>
                <a:lnTo>
                  <a:pt x="32390" y="0"/>
                </a:lnTo>
                <a:lnTo>
                  <a:pt x="30990" y="1400"/>
                </a:lnTo>
                <a:lnTo>
                  <a:pt x="1400" y="1400"/>
                </a:lnTo>
                <a:close/>
              </a:path>
              <a:path fill="darken" w="32390" h="21600">
                <a:moveTo>
                  <a:pt x="32390" y="0"/>
                </a:moveTo>
                <a:lnTo>
                  <a:pt x="32390" y="21600"/>
                </a:lnTo>
                <a:lnTo>
                  <a:pt x="30990" y="20200"/>
                </a:lnTo>
                <a:lnTo>
                  <a:pt x="30990" y="1400"/>
                </a:lnTo>
                <a:close/>
              </a:path>
              <a:path fill="darkenLess" w="32390" h="21600">
                <a:moveTo>
                  <a:pt x="323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0" y="20200"/>
                </a:lnTo>
                <a:close/>
              </a:path>
              <a:path fill="lighten" w="323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0" h="21600">
                <a:moveTo>
                  <a:pt x="16195" y="3837"/>
                </a:moveTo>
                <a:lnTo>
                  <a:pt x="18771" y="6448"/>
                </a:lnTo>
                <a:lnTo>
                  <a:pt x="18771" y="4707"/>
                </a:lnTo>
                <a:lnTo>
                  <a:pt x="20547" y="4707"/>
                </a:lnTo>
                <a:lnTo>
                  <a:pt x="20547" y="8224"/>
                </a:lnTo>
                <a:lnTo>
                  <a:pt x="23158" y="10800"/>
                </a:lnTo>
                <a:lnTo>
                  <a:pt x="21504" y="10800"/>
                </a:lnTo>
                <a:lnTo>
                  <a:pt x="21504" y="17989"/>
                </a:lnTo>
                <a:lnTo>
                  <a:pt x="10886" y="17989"/>
                </a:lnTo>
                <a:lnTo>
                  <a:pt x="10886" y="10800"/>
                </a:lnTo>
                <a:lnTo>
                  <a:pt x="9232" y="10800"/>
                </a:lnTo>
                <a:close/>
              </a:path>
              <a:path fill="darkenLess" w="32390" h="21600">
                <a:moveTo>
                  <a:pt x="18771" y="6448"/>
                </a:moveTo>
                <a:lnTo>
                  <a:pt x="18771" y="4707"/>
                </a:lnTo>
                <a:lnTo>
                  <a:pt x="20547" y="4707"/>
                </a:lnTo>
                <a:lnTo>
                  <a:pt x="20547" y="8224"/>
                </a:lnTo>
                <a:close/>
              </a:path>
              <a:path fill="darkenLess" w="32390" h="21600">
                <a:moveTo>
                  <a:pt x="15272" y="14299"/>
                </a:moveTo>
                <a:lnTo>
                  <a:pt x="17117" y="14299"/>
                </a:lnTo>
                <a:lnTo>
                  <a:pt x="17117" y="17989"/>
                </a:lnTo>
                <a:lnTo>
                  <a:pt x="21504" y="17989"/>
                </a:lnTo>
                <a:lnTo>
                  <a:pt x="21504" y="10800"/>
                </a:lnTo>
                <a:lnTo>
                  <a:pt x="10886" y="10800"/>
                </a:lnTo>
                <a:lnTo>
                  <a:pt x="10886" y="17989"/>
                </a:lnTo>
                <a:lnTo>
                  <a:pt x="15272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omic Sans MS"/>
              </a:rPr>
              <a:t>Monomial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>
            <a:hlinkClick r:id="" action="ppaction://hlinkshowjump?jump=firstslide"/>
          </p:cNvPr>
          <p:cNvSpPr/>
          <p:nvPr/>
        </p:nvSpPr>
        <p:spPr>
          <a:xfrm>
            <a:off x="8001000" y="6095880"/>
            <a:ext cx="1143000" cy="762120"/>
          </a:xfrm>
          <a:custGeom>
            <a:avLst/>
            <a:gdLst>
              <a:gd name="textAreaLeft" fmla="*/ 49320 w 1143000"/>
              <a:gd name="textAreaRight" fmla="*/ 1093680 w 11430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2390" h="21600">
                <a:moveTo>
                  <a:pt x="0" y="0"/>
                </a:moveTo>
                <a:lnTo>
                  <a:pt x="32390" y="0"/>
                </a:lnTo>
                <a:lnTo>
                  <a:pt x="32390" y="21600"/>
                </a:lnTo>
                <a:lnTo>
                  <a:pt x="0" y="21600"/>
                </a:lnTo>
                <a:close/>
              </a:path>
              <a:path fill="lightenLess" w="32390" h="21600">
                <a:moveTo>
                  <a:pt x="0" y="0"/>
                </a:moveTo>
                <a:lnTo>
                  <a:pt x="32390" y="0"/>
                </a:lnTo>
                <a:lnTo>
                  <a:pt x="30990" y="1400"/>
                </a:lnTo>
                <a:lnTo>
                  <a:pt x="1400" y="1400"/>
                </a:lnTo>
                <a:close/>
              </a:path>
              <a:path fill="darken" w="32390" h="21600">
                <a:moveTo>
                  <a:pt x="32390" y="0"/>
                </a:moveTo>
                <a:lnTo>
                  <a:pt x="32390" y="21600"/>
                </a:lnTo>
                <a:lnTo>
                  <a:pt x="30990" y="20200"/>
                </a:lnTo>
                <a:lnTo>
                  <a:pt x="30990" y="1400"/>
                </a:lnTo>
                <a:close/>
              </a:path>
              <a:path fill="darkenLess" w="32390" h="21600">
                <a:moveTo>
                  <a:pt x="323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0" y="20200"/>
                </a:lnTo>
                <a:close/>
              </a:path>
              <a:path fill="lighten" w="323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0" h="21600">
                <a:moveTo>
                  <a:pt x="16195" y="3837"/>
                </a:moveTo>
                <a:lnTo>
                  <a:pt x="18771" y="6448"/>
                </a:lnTo>
                <a:lnTo>
                  <a:pt x="18771" y="4707"/>
                </a:lnTo>
                <a:lnTo>
                  <a:pt x="20547" y="4707"/>
                </a:lnTo>
                <a:lnTo>
                  <a:pt x="20547" y="8224"/>
                </a:lnTo>
                <a:lnTo>
                  <a:pt x="23158" y="10800"/>
                </a:lnTo>
                <a:lnTo>
                  <a:pt x="21504" y="10800"/>
                </a:lnTo>
                <a:lnTo>
                  <a:pt x="21504" y="17989"/>
                </a:lnTo>
                <a:lnTo>
                  <a:pt x="10886" y="17989"/>
                </a:lnTo>
                <a:lnTo>
                  <a:pt x="10886" y="10800"/>
                </a:lnTo>
                <a:lnTo>
                  <a:pt x="9232" y="10800"/>
                </a:lnTo>
                <a:close/>
              </a:path>
              <a:path fill="darkenLess" w="32390" h="21600">
                <a:moveTo>
                  <a:pt x="18771" y="6448"/>
                </a:moveTo>
                <a:lnTo>
                  <a:pt x="18771" y="4707"/>
                </a:lnTo>
                <a:lnTo>
                  <a:pt x="20547" y="4707"/>
                </a:lnTo>
                <a:lnTo>
                  <a:pt x="20547" y="8224"/>
                </a:lnTo>
                <a:close/>
              </a:path>
              <a:path fill="darkenLess" w="32390" h="21600">
                <a:moveTo>
                  <a:pt x="15272" y="14299"/>
                </a:moveTo>
                <a:lnTo>
                  <a:pt x="17117" y="14299"/>
                </a:lnTo>
                <a:lnTo>
                  <a:pt x="17117" y="17989"/>
                </a:lnTo>
                <a:lnTo>
                  <a:pt x="21504" y="17989"/>
                </a:lnTo>
                <a:lnTo>
                  <a:pt x="21504" y="10800"/>
                </a:lnTo>
                <a:lnTo>
                  <a:pt x="10886" y="10800"/>
                </a:lnTo>
                <a:lnTo>
                  <a:pt x="10886" y="17989"/>
                </a:lnTo>
                <a:lnTo>
                  <a:pt x="15272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omic Sans MS"/>
              </a:rPr>
              <a:t>The result of an addition problem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omic Sans MS"/>
              </a:rPr>
              <a:t>(ADD!)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>
            <a:hlinkClick r:id="" action="ppaction://hlinkshowjump?jump=firstslide"/>
          </p:cNvPr>
          <p:cNvSpPr/>
          <p:nvPr/>
        </p:nvSpPr>
        <p:spPr>
          <a:xfrm>
            <a:off x="8001000" y="6095880"/>
            <a:ext cx="1143000" cy="762120"/>
          </a:xfrm>
          <a:custGeom>
            <a:avLst/>
            <a:gdLst>
              <a:gd name="textAreaLeft" fmla="*/ 49320 w 1143000"/>
              <a:gd name="textAreaRight" fmla="*/ 1093680 w 11430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2390" h="21600">
                <a:moveTo>
                  <a:pt x="0" y="0"/>
                </a:moveTo>
                <a:lnTo>
                  <a:pt x="32390" y="0"/>
                </a:lnTo>
                <a:lnTo>
                  <a:pt x="32390" y="21600"/>
                </a:lnTo>
                <a:lnTo>
                  <a:pt x="0" y="21600"/>
                </a:lnTo>
                <a:close/>
              </a:path>
              <a:path fill="lightenLess" w="32390" h="21600">
                <a:moveTo>
                  <a:pt x="0" y="0"/>
                </a:moveTo>
                <a:lnTo>
                  <a:pt x="32390" y="0"/>
                </a:lnTo>
                <a:lnTo>
                  <a:pt x="30990" y="1400"/>
                </a:lnTo>
                <a:lnTo>
                  <a:pt x="1400" y="1400"/>
                </a:lnTo>
                <a:close/>
              </a:path>
              <a:path fill="darken" w="32390" h="21600">
                <a:moveTo>
                  <a:pt x="32390" y="0"/>
                </a:moveTo>
                <a:lnTo>
                  <a:pt x="32390" y="21600"/>
                </a:lnTo>
                <a:lnTo>
                  <a:pt x="30990" y="20200"/>
                </a:lnTo>
                <a:lnTo>
                  <a:pt x="30990" y="1400"/>
                </a:lnTo>
                <a:close/>
              </a:path>
              <a:path fill="darkenLess" w="32390" h="21600">
                <a:moveTo>
                  <a:pt x="323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0" y="20200"/>
                </a:lnTo>
                <a:close/>
              </a:path>
              <a:path fill="lighten" w="323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0" h="21600">
                <a:moveTo>
                  <a:pt x="16195" y="3837"/>
                </a:moveTo>
                <a:lnTo>
                  <a:pt x="18771" y="6448"/>
                </a:lnTo>
                <a:lnTo>
                  <a:pt x="18771" y="4707"/>
                </a:lnTo>
                <a:lnTo>
                  <a:pt x="20547" y="4707"/>
                </a:lnTo>
                <a:lnTo>
                  <a:pt x="20547" y="8224"/>
                </a:lnTo>
                <a:lnTo>
                  <a:pt x="23158" y="10800"/>
                </a:lnTo>
                <a:lnTo>
                  <a:pt x="21504" y="10800"/>
                </a:lnTo>
                <a:lnTo>
                  <a:pt x="21504" y="17989"/>
                </a:lnTo>
                <a:lnTo>
                  <a:pt x="10886" y="17989"/>
                </a:lnTo>
                <a:lnTo>
                  <a:pt x="10886" y="10800"/>
                </a:lnTo>
                <a:lnTo>
                  <a:pt x="9232" y="10800"/>
                </a:lnTo>
                <a:close/>
              </a:path>
              <a:path fill="darkenLess" w="32390" h="21600">
                <a:moveTo>
                  <a:pt x="18771" y="6448"/>
                </a:moveTo>
                <a:lnTo>
                  <a:pt x="18771" y="4707"/>
                </a:lnTo>
                <a:lnTo>
                  <a:pt x="20547" y="4707"/>
                </a:lnTo>
                <a:lnTo>
                  <a:pt x="20547" y="8224"/>
                </a:lnTo>
                <a:close/>
              </a:path>
              <a:path fill="darkenLess" w="32390" h="21600">
                <a:moveTo>
                  <a:pt x="15272" y="14299"/>
                </a:moveTo>
                <a:lnTo>
                  <a:pt x="17117" y="14299"/>
                </a:lnTo>
                <a:lnTo>
                  <a:pt x="17117" y="17989"/>
                </a:lnTo>
                <a:lnTo>
                  <a:pt x="21504" y="17989"/>
                </a:lnTo>
                <a:lnTo>
                  <a:pt x="21504" y="10800"/>
                </a:lnTo>
                <a:lnTo>
                  <a:pt x="10886" y="10800"/>
                </a:lnTo>
                <a:lnTo>
                  <a:pt x="10886" y="17989"/>
                </a:lnTo>
                <a:lnTo>
                  <a:pt x="15272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omic Sans MS"/>
              </a:rPr>
              <a:t>A letter that represents an “unknown” valu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>
            <a:hlinkClick r:id="" action="ppaction://hlinkshowjump?jump=firstslide"/>
          </p:cNvPr>
          <p:cNvSpPr/>
          <p:nvPr/>
        </p:nvSpPr>
        <p:spPr>
          <a:xfrm>
            <a:off x="8001000" y="6095880"/>
            <a:ext cx="1143000" cy="762120"/>
          </a:xfrm>
          <a:custGeom>
            <a:avLst/>
            <a:gdLst>
              <a:gd name="textAreaLeft" fmla="*/ 49320 w 1143000"/>
              <a:gd name="textAreaRight" fmla="*/ 1093680 w 11430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2390" h="21600">
                <a:moveTo>
                  <a:pt x="0" y="0"/>
                </a:moveTo>
                <a:lnTo>
                  <a:pt x="32390" y="0"/>
                </a:lnTo>
                <a:lnTo>
                  <a:pt x="32390" y="21600"/>
                </a:lnTo>
                <a:lnTo>
                  <a:pt x="0" y="21600"/>
                </a:lnTo>
                <a:close/>
              </a:path>
              <a:path fill="lightenLess" w="32390" h="21600">
                <a:moveTo>
                  <a:pt x="0" y="0"/>
                </a:moveTo>
                <a:lnTo>
                  <a:pt x="32390" y="0"/>
                </a:lnTo>
                <a:lnTo>
                  <a:pt x="30990" y="1400"/>
                </a:lnTo>
                <a:lnTo>
                  <a:pt x="1400" y="1400"/>
                </a:lnTo>
                <a:close/>
              </a:path>
              <a:path fill="darken" w="32390" h="21600">
                <a:moveTo>
                  <a:pt x="32390" y="0"/>
                </a:moveTo>
                <a:lnTo>
                  <a:pt x="32390" y="21600"/>
                </a:lnTo>
                <a:lnTo>
                  <a:pt x="30990" y="20200"/>
                </a:lnTo>
                <a:lnTo>
                  <a:pt x="30990" y="1400"/>
                </a:lnTo>
                <a:close/>
              </a:path>
              <a:path fill="darkenLess" w="32390" h="21600">
                <a:moveTo>
                  <a:pt x="323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0" y="20200"/>
                </a:lnTo>
                <a:close/>
              </a:path>
              <a:path fill="lighten" w="323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0" h="21600">
                <a:moveTo>
                  <a:pt x="16195" y="3837"/>
                </a:moveTo>
                <a:lnTo>
                  <a:pt x="18771" y="6448"/>
                </a:lnTo>
                <a:lnTo>
                  <a:pt x="18771" y="4707"/>
                </a:lnTo>
                <a:lnTo>
                  <a:pt x="20547" y="4707"/>
                </a:lnTo>
                <a:lnTo>
                  <a:pt x="20547" y="8224"/>
                </a:lnTo>
                <a:lnTo>
                  <a:pt x="23158" y="10800"/>
                </a:lnTo>
                <a:lnTo>
                  <a:pt x="21504" y="10800"/>
                </a:lnTo>
                <a:lnTo>
                  <a:pt x="21504" y="17989"/>
                </a:lnTo>
                <a:lnTo>
                  <a:pt x="10886" y="17989"/>
                </a:lnTo>
                <a:lnTo>
                  <a:pt x="10886" y="10800"/>
                </a:lnTo>
                <a:lnTo>
                  <a:pt x="9232" y="10800"/>
                </a:lnTo>
                <a:close/>
              </a:path>
              <a:path fill="darkenLess" w="32390" h="21600">
                <a:moveTo>
                  <a:pt x="18771" y="6448"/>
                </a:moveTo>
                <a:lnTo>
                  <a:pt x="18771" y="4707"/>
                </a:lnTo>
                <a:lnTo>
                  <a:pt x="20547" y="4707"/>
                </a:lnTo>
                <a:lnTo>
                  <a:pt x="20547" y="8224"/>
                </a:lnTo>
                <a:close/>
              </a:path>
              <a:path fill="darkenLess" w="32390" h="21600">
                <a:moveTo>
                  <a:pt x="15272" y="14299"/>
                </a:moveTo>
                <a:lnTo>
                  <a:pt x="17117" y="14299"/>
                </a:lnTo>
                <a:lnTo>
                  <a:pt x="17117" y="17989"/>
                </a:lnTo>
                <a:lnTo>
                  <a:pt x="21504" y="17989"/>
                </a:lnTo>
                <a:lnTo>
                  <a:pt x="21504" y="10800"/>
                </a:lnTo>
                <a:lnTo>
                  <a:pt x="10886" y="10800"/>
                </a:lnTo>
                <a:lnTo>
                  <a:pt x="10886" y="17989"/>
                </a:lnTo>
                <a:lnTo>
                  <a:pt x="15272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>
            <a:hlinkClick r:id="" action="ppaction://hlinkshowjump?jump=firstslide"/>
          </p:cNvPr>
          <p:cNvSpPr/>
          <p:nvPr/>
        </p:nvSpPr>
        <p:spPr>
          <a:xfrm>
            <a:off x="8001000" y="6095880"/>
            <a:ext cx="1143000" cy="762120"/>
          </a:xfrm>
          <a:custGeom>
            <a:avLst/>
            <a:gdLst>
              <a:gd name="textAreaLeft" fmla="*/ 49320 w 1143000"/>
              <a:gd name="textAreaRight" fmla="*/ 1093680 w 11430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2390" h="21600">
                <a:moveTo>
                  <a:pt x="0" y="0"/>
                </a:moveTo>
                <a:lnTo>
                  <a:pt x="32390" y="0"/>
                </a:lnTo>
                <a:lnTo>
                  <a:pt x="32390" y="21600"/>
                </a:lnTo>
                <a:lnTo>
                  <a:pt x="0" y="21600"/>
                </a:lnTo>
                <a:close/>
              </a:path>
              <a:path fill="lightenLess" w="32390" h="21600">
                <a:moveTo>
                  <a:pt x="0" y="0"/>
                </a:moveTo>
                <a:lnTo>
                  <a:pt x="32390" y="0"/>
                </a:lnTo>
                <a:lnTo>
                  <a:pt x="30990" y="1400"/>
                </a:lnTo>
                <a:lnTo>
                  <a:pt x="1400" y="1400"/>
                </a:lnTo>
                <a:close/>
              </a:path>
              <a:path fill="darken" w="32390" h="21600">
                <a:moveTo>
                  <a:pt x="32390" y="0"/>
                </a:moveTo>
                <a:lnTo>
                  <a:pt x="32390" y="21600"/>
                </a:lnTo>
                <a:lnTo>
                  <a:pt x="30990" y="20200"/>
                </a:lnTo>
                <a:lnTo>
                  <a:pt x="30990" y="1400"/>
                </a:lnTo>
                <a:close/>
              </a:path>
              <a:path fill="darkenLess" w="32390" h="21600">
                <a:moveTo>
                  <a:pt x="323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0" y="20200"/>
                </a:lnTo>
                <a:close/>
              </a:path>
              <a:path fill="lighten" w="323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0" h="21600">
                <a:moveTo>
                  <a:pt x="16195" y="3837"/>
                </a:moveTo>
                <a:lnTo>
                  <a:pt x="18771" y="6448"/>
                </a:lnTo>
                <a:lnTo>
                  <a:pt x="18771" y="4707"/>
                </a:lnTo>
                <a:lnTo>
                  <a:pt x="20547" y="4707"/>
                </a:lnTo>
                <a:lnTo>
                  <a:pt x="20547" y="8224"/>
                </a:lnTo>
                <a:lnTo>
                  <a:pt x="23158" y="10800"/>
                </a:lnTo>
                <a:lnTo>
                  <a:pt x="21504" y="10800"/>
                </a:lnTo>
                <a:lnTo>
                  <a:pt x="21504" y="17989"/>
                </a:lnTo>
                <a:lnTo>
                  <a:pt x="10886" y="17989"/>
                </a:lnTo>
                <a:lnTo>
                  <a:pt x="10886" y="10800"/>
                </a:lnTo>
                <a:lnTo>
                  <a:pt x="9232" y="10800"/>
                </a:lnTo>
                <a:close/>
              </a:path>
              <a:path fill="darkenLess" w="32390" h="21600">
                <a:moveTo>
                  <a:pt x="18771" y="6448"/>
                </a:moveTo>
                <a:lnTo>
                  <a:pt x="18771" y="4707"/>
                </a:lnTo>
                <a:lnTo>
                  <a:pt x="20547" y="4707"/>
                </a:lnTo>
                <a:lnTo>
                  <a:pt x="20547" y="8224"/>
                </a:lnTo>
                <a:close/>
              </a:path>
              <a:path fill="darkenLess" w="32390" h="21600">
                <a:moveTo>
                  <a:pt x="15272" y="14299"/>
                </a:moveTo>
                <a:lnTo>
                  <a:pt x="17117" y="14299"/>
                </a:lnTo>
                <a:lnTo>
                  <a:pt x="17117" y="17989"/>
                </a:lnTo>
                <a:lnTo>
                  <a:pt x="21504" y="17989"/>
                </a:lnTo>
                <a:lnTo>
                  <a:pt x="21504" y="10800"/>
                </a:lnTo>
                <a:lnTo>
                  <a:pt x="10886" y="10800"/>
                </a:lnTo>
                <a:lnTo>
                  <a:pt x="10886" y="17989"/>
                </a:lnTo>
                <a:lnTo>
                  <a:pt x="15272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5720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omic Sans MS"/>
              </a:rPr>
              <a:t>A number attached to a variabl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>
            <a:hlinkClick r:id="" action="ppaction://hlinkshowjump?jump=firstslide"/>
          </p:cNvPr>
          <p:cNvSpPr/>
          <p:nvPr/>
        </p:nvSpPr>
        <p:spPr>
          <a:xfrm>
            <a:off x="8001000" y="6095880"/>
            <a:ext cx="1143000" cy="762120"/>
          </a:xfrm>
          <a:custGeom>
            <a:avLst/>
            <a:gdLst>
              <a:gd name="textAreaLeft" fmla="*/ 49320 w 1143000"/>
              <a:gd name="textAreaRight" fmla="*/ 1093680 w 11430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2390" h="21600">
                <a:moveTo>
                  <a:pt x="0" y="0"/>
                </a:moveTo>
                <a:lnTo>
                  <a:pt x="32390" y="0"/>
                </a:lnTo>
                <a:lnTo>
                  <a:pt x="32390" y="21600"/>
                </a:lnTo>
                <a:lnTo>
                  <a:pt x="0" y="21600"/>
                </a:lnTo>
                <a:close/>
              </a:path>
              <a:path fill="lightenLess" w="32390" h="21600">
                <a:moveTo>
                  <a:pt x="0" y="0"/>
                </a:moveTo>
                <a:lnTo>
                  <a:pt x="32390" y="0"/>
                </a:lnTo>
                <a:lnTo>
                  <a:pt x="30990" y="1400"/>
                </a:lnTo>
                <a:lnTo>
                  <a:pt x="1400" y="1400"/>
                </a:lnTo>
                <a:close/>
              </a:path>
              <a:path fill="darken" w="32390" h="21600">
                <a:moveTo>
                  <a:pt x="32390" y="0"/>
                </a:moveTo>
                <a:lnTo>
                  <a:pt x="32390" y="21600"/>
                </a:lnTo>
                <a:lnTo>
                  <a:pt x="30990" y="20200"/>
                </a:lnTo>
                <a:lnTo>
                  <a:pt x="30990" y="1400"/>
                </a:lnTo>
                <a:close/>
              </a:path>
              <a:path fill="darkenLess" w="32390" h="21600">
                <a:moveTo>
                  <a:pt x="323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0" y="20200"/>
                </a:lnTo>
                <a:close/>
              </a:path>
              <a:path fill="lighten" w="323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0" h="21600">
                <a:moveTo>
                  <a:pt x="16195" y="3837"/>
                </a:moveTo>
                <a:lnTo>
                  <a:pt x="18771" y="6448"/>
                </a:lnTo>
                <a:lnTo>
                  <a:pt x="18771" y="4707"/>
                </a:lnTo>
                <a:lnTo>
                  <a:pt x="20547" y="4707"/>
                </a:lnTo>
                <a:lnTo>
                  <a:pt x="20547" y="8224"/>
                </a:lnTo>
                <a:lnTo>
                  <a:pt x="23158" y="10800"/>
                </a:lnTo>
                <a:lnTo>
                  <a:pt x="21504" y="10800"/>
                </a:lnTo>
                <a:lnTo>
                  <a:pt x="21504" y="17989"/>
                </a:lnTo>
                <a:lnTo>
                  <a:pt x="10886" y="17989"/>
                </a:lnTo>
                <a:lnTo>
                  <a:pt x="10886" y="10800"/>
                </a:lnTo>
                <a:lnTo>
                  <a:pt x="9232" y="10800"/>
                </a:lnTo>
                <a:close/>
              </a:path>
              <a:path fill="darkenLess" w="32390" h="21600">
                <a:moveTo>
                  <a:pt x="18771" y="6448"/>
                </a:moveTo>
                <a:lnTo>
                  <a:pt x="18771" y="4707"/>
                </a:lnTo>
                <a:lnTo>
                  <a:pt x="20547" y="4707"/>
                </a:lnTo>
                <a:lnTo>
                  <a:pt x="20547" y="8224"/>
                </a:lnTo>
                <a:close/>
              </a:path>
              <a:path fill="darkenLess" w="32390" h="21600">
                <a:moveTo>
                  <a:pt x="15272" y="14299"/>
                </a:moveTo>
                <a:lnTo>
                  <a:pt x="17117" y="14299"/>
                </a:lnTo>
                <a:lnTo>
                  <a:pt x="17117" y="17989"/>
                </a:lnTo>
                <a:lnTo>
                  <a:pt x="21504" y="17989"/>
                </a:lnTo>
                <a:lnTo>
                  <a:pt x="21504" y="10800"/>
                </a:lnTo>
                <a:lnTo>
                  <a:pt x="10886" y="10800"/>
                </a:lnTo>
                <a:lnTo>
                  <a:pt x="10886" y="17989"/>
                </a:lnTo>
                <a:lnTo>
                  <a:pt x="15272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5720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omic Sans MS"/>
              </a:rPr>
              <a:t>Simplify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>
            <a:hlinkClick r:id="" action="ppaction://hlinkshowjump?jump=firstslide"/>
          </p:cNvPr>
          <p:cNvSpPr/>
          <p:nvPr/>
        </p:nvSpPr>
        <p:spPr>
          <a:xfrm>
            <a:off x="8001000" y="6095880"/>
            <a:ext cx="1143000" cy="762120"/>
          </a:xfrm>
          <a:custGeom>
            <a:avLst/>
            <a:gdLst>
              <a:gd name="textAreaLeft" fmla="*/ 49320 w 1143000"/>
              <a:gd name="textAreaRight" fmla="*/ 1093680 w 11430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2390" h="21600">
                <a:moveTo>
                  <a:pt x="0" y="0"/>
                </a:moveTo>
                <a:lnTo>
                  <a:pt x="32390" y="0"/>
                </a:lnTo>
                <a:lnTo>
                  <a:pt x="32390" y="21600"/>
                </a:lnTo>
                <a:lnTo>
                  <a:pt x="0" y="21600"/>
                </a:lnTo>
                <a:close/>
              </a:path>
              <a:path fill="lightenLess" w="32390" h="21600">
                <a:moveTo>
                  <a:pt x="0" y="0"/>
                </a:moveTo>
                <a:lnTo>
                  <a:pt x="32390" y="0"/>
                </a:lnTo>
                <a:lnTo>
                  <a:pt x="30990" y="1400"/>
                </a:lnTo>
                <a:lnTo>
                  <a:pt x="1400" y="1400"/>
                </a:lnTo>
                <a:close/>
              </a:path>
              <a:path fill="darken" w="32390" h="21600">
                <a:moveTo>
                  <a:pt x="32390" y="0"/>
                </a:moveTo>
                <a:lnTo>
                  <a:pt x="32390" y="21600"/>
                </a:lnTo>
                <a:lnTo>
                  <a:pt x="30990" y="20200"/>
                </a:lnTo>
                <a:lnTo>
                  <a:pt x="30990" y="1400"/>
                </a:lnTo>
                <a:close/>
              </a:path>
              <a:path fill="darkenLess" w="32390" h="21600">
                <a:moveTo>
                  <a:pt x="323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0" y="20200"/>
                </a:lnTo>
                <a:close/>
              </a:path>
              <a:path fill="lighten" w="323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0" h="21600">
                <a:moveTo>
                  <a:pt x="16195" y="3837"/>
                </a:moveTo>
                <a:lnTo>
                  <a:pt x="18771" y="6448"/>
                </a:lnTo>
                <a:lnTo>
                  <a:pt x="18771" y="4707"/>
                </a:lnTo>
                <a:lnTo>
                  <a:pt x="20547" y="4707"/>
                </a:lnTo>
                <a:lnTo>
                  <a:pt x="20547" y="8224"/>
                </a:lnTo>
                <a:lnTo>
                  <a:pt x="23158" y="10800"/>
                </a:lnTo>
                <a:lnTo>
                  <a:pt x="21504" y="10800"/>
                </a:lnTo>
                <a:lnTo>
                  <a:pt x="21504" y="17989"/>
                </a:lnTo>
                <a:lnTo>
                  <a:pt x="10886" y="17989"/>
                </a:lnTo>
                <a:lnTo>
                  <a:pt x="10886" y="10800"/>
                </a:lnTo>
                <a:lnTo>
                  <a:pt x="9232" y="10800"/>
                </a:lnTo>
                <a:close/>
              </a:path>
              <a:path fill="darkenLess" w="32390" h="21600">
                <a:moveTo>
                  <a:pt x="18771" y="6448"/>
                </a:moveTo>
                <a:lnTo>
                  <a:pt x="18771" y="4707"/>
                </a:lnTo>
                <a:lnTo>
                  <a:pt x="20547" y="4707"/>
                </a:lnTo>
                <a:lnTo>
                  <a:pt x="20547" y="8224"/>
                </a:lnTo>
                <a:close/>
              </a:path>
              <a:path fill="darkenLess" w="32390" h="21600">
                <a:moveTo>
                  <a:pt x="15272" y="14299"/>
                </a:moveTo>
                <a:lnTo>
                  <a:pt x="17117" y="14299"/>
                </a:lnTo>
                <a:lnTo>
                  <a:pt x="17117" y="17989"/>
                </a:lnTo>
                <a:lnTo>
                  <a:pt x="21504" y="17989"/>
                </a:lnTo>
                <a:lnTo>
                  <a:pt x="21504" y="10800"/>
                </a:lnTo>
                <a:lnTo>
                  <a:pt x="10886" y="10800"/>
                </a:lnTo>
                <a:lnTo>
                  <a:pt x="10886" y="17989"/>
                </a:lnTo>
                <a:lnTo>
                  <a:pt x="15272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omic Sans MS"/>
              </a:rPr>
              <a:t>Same variable with </a:t>
            </a:r>
            <a:r>
              <a:rPr b="1" i="1" lang="en-US" sz="6600" spc="-1" strike="noStrike">
                <a:solidFill>
                  <a:srgbClr val="000000"/>
                </a:solidFill>
                <a:latin typeface="Comic Sans MS"/>
              </a:rPr>
              <a:t>same</a:t>
            </a:r>
            <a:r>
              <a:rPr b="1" lang="en-US" sz="6600" spc="-1" strike="noStrike">
                <a:solidFill>
                  <a:srgbClr val="000000"/>
                </a:solidFill>
                <a:latin typeface="Comic Sans MS"/>
              </a:rPr>
              <a:t> exponen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1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1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omic Sans MS"/>
              </a:rPr>
              <a:t>Exactly 2 term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>
            <a:hlinkClick r:id="" action="ppaction://hlinkshowjump?jump=firstslide"/>
          </p:cNvPr>
          <p:cNvSpPr/>
          <p:nvPr/>
        </p:nvSpPr>
        <p:spPr>
          <a:xfrm>
            <a:off x="8001000" y="6095880"/>
            <a:ext cx="1143000" cy="762120"/>
          </a:xfrm>
          <a:custGeom>
            <a:avLst/>
            <a:gdLst>
              <a:gd name="textAreaLeft" fmla="*/ 49320 w 1143000"/>
              <a:gd name="textAreaRight" fmla="*/ 1093680 w 11430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2390" h="21600">
                <a:moveTo>
                  <a:pt x="0" y="0"/>
                </a:moveTo>
                <a:lnTo>
                  <a:pt x="32390" y="0"/>
                </a:lnTo>
                <a:lnTo>
                  <a:pt x="32390" y="21600"/>
                </a:lnTo>
                <a:lnTo>
                  <a:pt x="0" y="21600"/>
                </a:lnTo>
                <a:close/>
              </a:path>
              <a:path fill="lightenLess" w="32390" h="21600">
                <a:moveTo>
                  <a:pt x="0" y="0"/>
                </a:moveTo>
                <a:lnTo>
                  <a:pt x="32390" y="0"/>
                </a:lnTo>
                <a:lnTo>
                  <a:pt x="30990" y="1400"/>
                </a:lnTo>
                <a:lnTo>
                  <a:pt x="1400" y="1400"/>
                </a:lnTo>
                <a:close/>
              </a:path>
              <a:path fill="darken" w="32390" h="21600">
                <a:moveTo>
                  <a:pt x="32390" y="0"/>
                </a:moveTo>
                <a:lnTo>
                  <a:pt x="32390" y="21600"/>
                </a:lnTo>
                <a:lnTo>
                  <a:pt x="30990" y="20200"/>
                </a:lnTo>
                <a:lnTo>
                  <a:pt x="30990" y="1400"/>
                </a:lnTo>
                <a:close/>
              </a:path>
              <a:path fill="darkenLess" w="32390" h="21600">
                <a:moveTo>
                  <a:pt x="323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0" y="20200"/>
                </a:lnTo>
                <a:close/>
              </a:path>
              <a:path fill="lighten" w="323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0" h="21600">
                <a:moveTo>
                  <a:pt x="16195" y="3837"/>
                </a:moveTo>
                <a:lnTo>
                  <a:pt x="18771" y="6448"/>
                </a:lnTo>
                <a:lnTo>
                  <a:pt x="18771" y="4707"/>
                </a:lnTo>
                <a:lnTo>
                  <a:pt x="20547" y="4707"/>
                </a:lnTo>
                <a:lnTo>
                  <a:pt x="20547" y="8224"/>
                </a:lnTo>
                <a:lnTo>
                  <a:pt x="23158" y="10800"/>
                </a:lnTo>
                <a:lnTo>
                  <a:pt x="21504" y="10800"/>
                </a:lnTo>
                <a:lnTo>
                  <a:pt x="21504" y="17989"/>
                </a:lnTo>
                <a:lnTo>
                  <a:pt x="10886" y="17989"/>
                </a:lnTo>
                <a:lnTo>
                  <a:pt x="10886" y="10800"/>
                </a:lnTo>
                <a:lnTo>
                  <a:pt x="9232" y="10800"/>
                </a:lnTo>
                <a:close/>
              </a:path>
              <a:path fill="darkenLess" w="32390" h="21600">
                <a:moveTo>
                  <a:pt x="18771" y="6448"/>
                </a:moveTo>
                <a:lnTo>
                  <a:pt x="18771" y="4707"/>
                </a:lnTo>
                <a:lnTo>
                  <a:pt x="20547" y="4707"/>
                </a:lnTo>
                <a:lnTo>
                  <a:pt x="20547" y="8224"/>
                </a:lnTo>
                <a:close/>
              </a:path>
              <a:path fill="darkenLess" w="32390" h="21600">
                <a:moveTo>
                  <a:pt x="15272" y="14299"/>
                </a:moveTo>
                <a:lnTo>
                  <a:pt x="17117" y="14299"/>
                </a:lnTo>
                <a:lnTo>
                  <a:pt x="17117" y="17989"/>
                </a:lnTo>
                <a:lnTo>
                  <a:pt x="21504" y="17989"/>
                </a:lnTo>
                <a:lnTo>
                  <a:pt x="21504" y="10800"/>
                </a:lnTo>
                <a:lnTo>
                  <a:pt x="10886" y="10800"/>
                </a:lnTo>
                <a:lnTo>
                  <a:pt x="10886" y="17989"/>
                </a:lnTo>
                <a:lnTo>
                  <a:pt x="15272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omic Sans MS"/>
              </a:rPr>
              <a:t>Reduce to lowest term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>
            <a:hlinkClick r:id="" action="ppaction://hlinkshowjump?jump=firstslide"/>
          </p:cNvPr>
          <p:cNvSpPr/>
          <p:nvPr/>
        </p:nvSpPr>
        <p:spPr>
          <a:xfrm>
            <a:off x="8001000" y="6095880"/>
            <a:ext cx="1143000" cy="762120"/>
          </a:xfrm>
          <a:custGeom>
            <a:avLst/>
            <a:gdLst>
              <a:gd name="textAreaLeft" fmla="*/ 49320 w 1143000"/>
              <a:gd name="textAreaRight" fmla="*/ 1093680 w 11430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2390" h="21600">
                <a:moveTo>
                  <a:pt x="0" y="0"/>
                </a:moveTo>
                <a:lnTo>
                  <a:pt x="32390" y="0"/>
                </a:lnTo>
                <a:lnTo>
                  <a:pt x="32390" y="21600"/>
                </a:lnTo>
                <a:lnTo>
                  <a:pt x="0" y="21600"/>
                </a:lnTo>
                <a:close/>
              </a:path>
              <a:path fill="lightenLess" w="32390" h="21600">
                <a:moveTo>
                  <a:pt x="0" y="0"/>
                </a:moveTo>
                <a:lnTo>
                  <a:pt x="32390" y="0"/>
                </a:lnTo>
                <a:lnTo>
                  <a:pt x="30990" y="1400"/>
                </a:lnTo>
                <a:lnTo>
                  <a:pt x="1400" y="1400"/>
                </a:lnTo>
                <a:close/>
              </a:path>
              <a:path fill="darken" w="32390" h="21600">
                <a:moveTo>
                  <a:pt x="32390" y="0"/>
                </a:moveTo>
                <a:lnTo>
                  <a:pt x="32390" y="21600"/>
                </a:lnTo>
                <a:lnTo>
                  <a:pt x="30990" y="20200"/>
                </a:lnTo>
                <a:lnTo>
                  <a:pt x="30990" y="1400"/>
                </a:lnTo>
                <a:close/>
              </a:path>
              <a:path fill="darkenLess" w="32390" h="21600">
                <a:moveTo>
                  <a:pt x="323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0" y="20200"/>
                </a:lnTo>
                <a:close/>
              </a:path>
              <a:path fill="lighten" w="323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0" h="21600">
                <a:moveTo>
                  <a:pt x="16195" y="3837"/>
                </a:moveTo>
                <a:lnTo>
                  <a:pt x="18771" y="6448"/>
                </a:lnTo>
                <a:lnTo>
                  <a:pt x="18771" y="4707"/>
                </a:lnTo>
                <a:lnTo>
                  <a:pt x="20547" y="4707"/>
                </a:lnTo>
                <a:lnTo>
                  <a:pt x="20547" y="8224"/>
                </a:lnTo>
                <a:lnTo>
                  <a:pt x="23158" y="10800"/>
                </a:lnTo>
                <a:lnTo>
                  <a:pt x="21504" y="10800"/>
                </a:lnTo>
                <a:lnTo>
                  <a:pt x="21504" y="17989"/>
                </a:lnTo>
                <a:lnTo>
                  <a:pt x="10886" y="17989"/>
                </a:lnTo>
                <a:lnTo>
                  <a:pt x="10886" y="10800"/>
                </a:lnTo>
                <a:lnTo>
                  <a:pt x="9232" y="10800"/>
                </a:lnTo>
                <a:close/>
              </a:path>
              <a:path fill="darkenLess" w="32390" h="21600">
                <a:moveTo>
                  <a:pt x="18771" y="6448"/>
                </a:moveTo>
                <a:lnTo>
                  <a:pt x="18771" y="4707"/>
                </a:lnTo>
                <a:lnTo>
                  <a:pt x="20547" y="4707"/>
                </a:lnTo>
                <a:lnTo>
                  <a:pt x="20547" y="8224"/>
                </a:lnTo>
                <a:close/>
              </a:path>
              <a:path fill="darkenLess" w="32390" h="21600">
                <a:moveTo>
                  <a:pt x="15272" y="14299"/>
                </a:moveTo>
                <a:lnTo>
                  <a:pt x="17117" y="14299"/>
                </a:lnTo>
                <a:lnTo>
                  <a:pt x="17117" y="17989"/>
                </a:lnTo>
                <a:lnTo>
                  <a:pt x="21504" y="17989"/>
                </a:lnTo>
                <a:lnTo>
                  <a:pt x="21504" y="10800"/>
                </a:lnTo>
                <a:lnTo>
                  <a:pt x="10886" y="10800"/>
                </a:lnTo>
                <a:lnTo>
                  <a:pt x="10886" y="17989"/>
                </a:lnTo>
                <a:lnTo>
                  <a:pt x="15272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>
            <a:hlinkClick r:id="" action="ppaction://hlinkshowjump?jump=firstslide"/>
          </p:cNvPr>
          <p:cNvSpPr/>
          <p:nvPr/>
        </p:nvSpPr>
        <p:spPr>
          <a:xfrm>
            <a:off x="8001000" y="6095880"/>
            <a:ext cx="1143000" cy="762120"/>
          </a:xfrm>
          <a:custGeom>
            <a:avLst/>
            <a:gdLst>
              <a:gd name="textAreaLeft" fmla="*/ 49320 w 1143000"/>
              <a:gd name="textAreaRight" fmla="*/ 1093680 w 11430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2390" h="21600">
                <a:moveTo>
                  <a:pt x="0" y="0"/>
                </a:moveTo>
                <a:lnTo>
                  <a:pt x="32390" y="0"/>
                </a:lnTo>
                <a:lnTo>
                  <a:pt x="32390" y="21600"/>
                </a:lnTo>
                <a:lnTo>
                  <a:pt x="0" y="21600"/>
                </a:lnTo>
                <a:close/>
              </a:path>
              <a:path fill="lightenLess" w="32390" h="21600">
                <a:moveTo>
                  <a:pt x="0" y="0"/>
                </a:moveTo>
                <a:lnTo>
                  <a:pt x="32390" y="0"/>
                </a:lnTo>
                <a:lnTo>
                  <a:pt x="30990" y="1400"/>
                </a:lnTo>
                <a:lnTo>
                  <a:pt x="1400" y="1400"/>
                </a:lnTo>
                <a:close/>
              </a:path>
              <a:path fill="darken" w="32390" h="21600">
                <a:moveTo>
                  <a:pt x="32390" y="0"/>
                </a:moveTo>
                <a:lnTo>
                  <a:pt x="32390" y="21600"/>
                </a:lnTo>
                <a:lnTo>
                  <a:pt x="30990" y="20200"/>
                </a:lnTo>
                <a:lnTo>
                  <a:pt x="30990" y="1400"/>
                </a:lnTo>
                <a:close/>
              </a:path>
              <a:path fill="darkenLess" w="32390" h="21600">
                <a:moveTo>
                  <a:pt x="323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0" y="20200"/>
                </a:lnTo>
                <a:close/>
              </a:path>
              <a:path fill="lighten" w="323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0" h="21600">
                <a:moveTo>
                  <a:pt x="16195" y="3837"/>
                </a:moveTo>
                <a:lnTo>
                  <a:pt x="18771" y="6448"/>
                </a:lnTo>
                <a:lnTo>
                  <a:pt x="18771" y="4707"/>
                </a:lnTo>
                <a:lnTo>
                  <a:pt x="20547" y="4707"/>
                </a:lnTo>
                <a:lnTo>
                  <a:pt x="20547" y="8224"/>
                </a:lnTo>
                <a:lnTo>
                  <a:pt x="23158" y="10800"/>
                </a:lnTo>
                <a:lnTo>
                  <a:pt x="21504" y="10800"/>
                </a:lnTo>
                <a:lnTo>
                  <a:pt x="21504" y="17989"/>
                </a:lnTo>
                <a:lnTo>
                  <a:pt x="10886" y="17989"/>
                </a:lnTo>
                <a:lnTo>
                  <a:pt x="10886" y="10800"/>
                </a:lnTo>
                <a:lnTo>
                  <a:pt x="9232" y="10800"/>
                </a:lnTo>
                <a:close/>
              </a:path>
              <a:path fill="darkenLess" w="32390" h="21600">
                <a:moveTo>
                  <a:pt x="18771" y="6448"/>
                </a:moveTo>
                <a:lnTo>
                  <a:pt x="18771" y="4707"/>
                </a:lnTo>
                <a:lnTo>
                  <a:pt x="20547" y="4707"/>
                </a:lnTo>
                <a:lnTo>
                  <a:pt x="20547" y="8224"/>
                </a:lnTo>
                <a:close/>
              </a:path>
              <a:path fill="darkenLess" w="32390" h="21600">
                <a:moveTo>
                  <a:pt x="15272" y="14299"/>
                </a:moveTo>
                <a:lnTo>
                  <a:pt x="17117" y="14299"/>
                </a:lnTo>
                <a:lnTo>
                  <a:pt x="17117" y="17989"/>
                </a:lnTo>
                <a:lnTo>
                  <a:pt x="21504" y="17989"/>
                </a:lnTo>
                <a:lnTo>
                  <a:pt x="21504" y="10800"/>
                </a:lnTo>
                <a:lnTo>
                  <a:pt x="10886" y="10800"/>
                </a:lnTo>
                <a:lnTo>
                  <a:pt x="10886" y="17989"/>
                </a:lnTo>
                <a:lnTo>
                  <a:pt x="15272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523880" y="2438280"/>
            <a:ext cx="64008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omic Sans MS"/>
              </a:rPr>
              <a:t>A number that stands alon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>
            <a:hlinkClick r:id="" action="ppaction://hlinkshowjump?jump=firstslide"/>
          </p:cNvPr>
          <p:cNvSpPr/>
          <p:nvPr/>
        </p:nvSpPr>
        <p:spPr>
          <a:xfrm>
            <a:off x="8001000" y="6095880"/>
            <a:ext cx="1143000" cy="762120"/>
          </a:xfrm>
          <a:custGeom>
            <a:avLst/>
            <a:gdLst>
              <a:gd name="textAreaLeft" fmla="*/ 49320 w 1143000"/>
              <a:gd name="textAreaRight" fmla="*/ 1093680 w 11430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2390" h="21600">
                <a:moveTo>
                  <a:pt x="0" y="0"/>
                </a:moveTo>
                <a:lnTo>
                  <a:pt x="32390" y="0"/>
                </a:lnTo>
                <a:lnTo>
                  <a:pt x="32390" y="21600"/>
                </a:lnTo>
                <a:lnTo>
                  <a:pt x="0" y="21600"/>
                </a:lnTo>
                <a:close/>
              </a:path>
              <a:path fill="lightenLess" w="32390" h="21600">
                <a:moveTo>
                  <a:pt x="0" y="0"/>
                </a:moveTo>
                <a:lnTo>
                  <a:pt x="32390" y="0"/>
                </a:lnTo>
                <a:lnTo>
                  <a:pt x="30990" y="1400"/>
                </a:lnTo>
                <a:lnTo>
                  <a:pt x="1400" y="1400"/>
                </a:lnTo>
                <a:close/>
              </a:path>
              <a:path fill="darken" w="32390" h="21600">
                <a:moveTo>
                  <a:pt x="32390" y="0"/>
                </a:moveTo>
                <a:lnTo>
                  <a:pt x="32390" y="21600"/>
                </a:lnTo>
                <a:lnTo>
                  <a:pt x="30990" y="20200"/>
                </a:lnTo>
                <a:lnTo>
                  <a:pt x="30990" y="1400"/>
                </a:lnTo>
                <a:close/>
              </a:path>
              <a:path fill="darkenLess" w="32390" h="21600">
                <a:moveTo>
                  <a:pt x="323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0" y="20200"/>
                </a:lnTo>
                <a:close/>
              </a:path>
              <a:path fill="lighten" w="323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0" h="21600">
                <a:moveTo>
                  <a:pt x="16195" y="3837"/>
                </a:moveTo>
                <a:lnTo>
                  <a:pt x="18771" y="6448"/>
                </a:lnTo>
                <a:lnTo>
                  <a:pt x="18771" y="4707"/>
                </a:lnTo>
                <a:lnTo>
                  <a:pt x="20547" y="4707"/>
                </a:lnTo>
                <a:lnTo>
                  <a:pt x="20547" y="8224"/>
                </a:lnTo>
                <a:lnTo>
                  <a:pt x="23158" y="10800"/>
                </a:lnTo>
                <a:lnTo>
                  <a:pt x="21504" y="10800"/>
                </a:lnTo>
                <a:lnTo>
                  <a:pt x="21504" y="17989"/>
                </a:lnTo>
                <a:lnTo>
                  <a:pt x="10886" y="17989"/>
                </a:lnTo>
                <a:lnTo>
                  <a:pt x="10886" y="10800"/>
                </a:lnTo>
                <a:lnTo>
                  <a:pt x="9232" y="10800"/>
                </a:lnTo>
                <a:close/>
              </a:path>
              <a:path fill="darkenLess" w="32390" h="21600">
                <a:moveTo>
                  <a:pt x="18771" y="6448"/>
                </a:moveTo>
                <a:lnTo>
                  <a:pt x="18771" y="4707"/>
                </a:lnTo>
                <a:lnTo>
                  <a:pt x="20547" y="4707"/>
                </a:lnTo>
                <a:lnTo>
                  <a:pt x="20547" y="8224"/>
                </a:lnTo>
                <a:close/>
              </a:path>
              <a:path fill="darkenLess" w="32390" h="21600">
                <a:moveTo>
                  <a:pt x="15272" y="14299"/>
                </a:moveTo>
                <a:lnTo>
                  <a:pt x="17117" y="14299"/>
                </a:lnTo>
                <a:lnTo>
                  <a:pt x="17117" y="17989"/>
                </a:lnTo>
                <a:lnTo>
                  <a:pt x="21504" y="17989"/>
                </a:lnTo>
                <a:lnTo>
                  <a:pt x="21504" y="10800"/>
                </a:lnTo>
                <a:lnTo>
                  <a:pt x="10886" y="10800"/>
                </a:lnTo>
                <a:lnTo>
                  <a:pt x="10886" y="17989"/>
                </a:lnTo>
                <a:lnTo>
                  <a:pt x="15272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29080" y="2438280"/>
            <a:ext cx="38048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omic Sans MS"/>
              </a:rPr>
              <a:t>Evaluat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4T00:56:22Z</dcterms:created>
  <dc:creator>Karen Samis</dc:creator>
  <dc:description/>
  <dc:language>en-US</dc:language>
  <cp:lastModifiedBy>Karen Samis</cp:lastModifiedBy>
  <dcterms:modified xsi:type="dcterms:W3CDTF">2008-11-06T02:05:44Z</dcterms:modified>
  <cp:revision>12</cp:revision>
  <dc:subject/>
  <dc:title>Slide 1</dc:title>
</cp:coreProperties>
</file>