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145B-FC59-4060-8876-5A710AD49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4D7E-DE61-4AB5-B2FA-ECE073A9E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9C64-187F-47A0-AB62-173F9BE6E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1C55-18A1-4F1D-B801-3957266E6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8B2E-A0C8-4461-8944-D1C01078F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57A4-4A24-4F29-BCEC-FD4C8EB47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BE56-C272-437D-AF2E-5D057F607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BD78-ED79-4714-AD79-77B606D58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A605-0F71-4B5E-843C-52F42B1FA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38BD-D727-413E-B154-4EC568DE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2F6F-8799-4991-8F55-2ABDAB14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0A74-B37C-465E-9D17-AB33A9E1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302BB-CA2F-4F47-86FD-B256B126F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slide11.xml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304920"/>
            <a:ext cx="1617480" cy="1176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304920"/>
            <a:ext cx="1617840" cy="1176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9880" y="304920"/>
            <a:ext cx="1617840" cy="1176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486400" y="304920"/>
            <a:ext cx="1617840" cy="1176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238880" y="304920"/>
            <a:ext cx="1617840" cy="1176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600200"/>
            <a:ext cx="161748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1600200"/>
            <a:ext cx="161784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9880" y="1600200"/>
            <a:ext cx="161784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486400" y="1600200"/>
            <a:ext cx="161784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238880" y="1600200"/>
            <a:ext cx="161784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2895480"/>
            <a:ext cx="161748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57400" y="2895480"/>
            <a:ext cx="161784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9880" y="2895480"/>
            <a:ext cx="161784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86400" y="2895480"/>
            <a:ext cx="161784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238880" y="2895480"/>
            <a:ext cx="161784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4191120"/>
            <a:ext cx="1617480" cy="1176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057400" y="4191120"/>
            <a:ext cx="1617840" cy="1176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09880" y="4191120"/>
            <a:ext cx="1617840" cy="1176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486400" y="4191120"/>
            <a:ext cx="1617840" cy="1176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238880" y="4191120"/>
            <a:ext cx="1617840" cy="1176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5486400"/>
            <a:ext cx="161748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057400" y="5486400"/>
            <a:ext cx="161784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9880" y="5486400"/>
            <a:ext cx="161784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86400" y="5486400"/>
            <a:ext cx="161784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8880" y="5486400"/>
            <a:ext cx="161784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1" action="ppaction://hlinksldjump"/>
          </p:cNvPr>
          <p:cNvSpPr/>
          <p:nvPr/>
        </p:nvSpPr>
        <p:spPr>
          <a:xfrm>
            <a:off x="304920" y="10666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6858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3049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2" action="ppaction://hlinksldjump"/>
          </p:cNvPr>
          <p:cNvSpPr/>
          <p:nvPr/>
        </p:nvSpPr>
        <p:spPr>
          <a:xfrm>
            <a:off x="2057400" y="10666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6858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057400" y="3049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3" action="ppaction://hlinksldjump"/>
          </p:cNvPr>
          <p:cNvSpPr/>
          <p:nvPr/>
        </p:nvSpPr>
        <p:spPr>
          <a:xfrm>
            <a:off x="3809880" y="10666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19720" y="6858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09880" y="3049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4" action="ppaction://hlinksldjump"/>
          </p:cNvPr>
          <p:cNvSpPr/>
          <p:nvPr/>
        </p:nvSpPr>
        <p:spPr>
          <a:xfrm>
            <a:off x="5486400" y="10666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95880" y="6858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86400" y="3049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rId5" action="ppaction://hlinksldjump"/>
          </p:cNvPr>
          <p:cNvSpPr/>
          <p:nvPr/>
        </p:nvSpPr>
        <p:spPr>
          <a:xfrm>
            <a:off x="7238880" y="10666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848720" y="6858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38880" y="3049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6" action="ppaction://hlinksldjump"/>
          </p:cNvPr>
          <p:cNvSpPr/>
          <p:nvPr/>
        </p:nvSpPr>
        <p:spPr>
          <a:xfrm>
            <a:off x="304920" y="23623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19810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1600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rId7" action="ppaction://hlinksldjump"/>
          </p:cNvPr>
          <p:cNvSpPr/>
          <p:nvPr/>
        </p:nvSpPr>
        <p:spPr>
          <a:xfrm>
            <a:off x="2057400" y="23623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66880" y="19810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57400" y="1600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rId8" action="ppaction://hlinksldjump"/>
          </p:cNvPr>
          <p:cNvSpPr/>
          <p:nvPr/>
        </p:nvSpPr>
        <p:spPr>
          <a:xfrm>
            <a:off x="3809880" y="23623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9810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9880" y="1600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rId9" action="ppaction://hlinksldjump"/>
          </p:cNvPr>
          <p:cNvSpPr/>
          <p:nvPr/>
        </p:nvSpPr>
        <p:spPr>
          <a:xfrm>
            <a:off x="5486400" y="23623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95880" y="19810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86400" y="1600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10" action="ppaction://hlinksldjump"/>
          </p:cNvPr>
          <p:cNvSpPr/>
          <p:nvPr/>
        </p:nvSpPr>
        <p:spPr>
          <a:xfrm>
            <a:off x="7238880" y="23623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848720" y="19810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238880" y="1600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rId11" action="ppaction://hlinksldjump"/>
          </p:cNvPr>
          <p:cNvSpPr/>
          <p:nvPr/>
        </p:nvSpPr>
        <p:spPr>
          <a:xfrm>
            <a:off x="304920" y="36576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32767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2895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rId12" action="ppaction://hlinksldjump"/>
          </p:cNvPr>
          <p:cNvSpPr/>
          <p:nvPr/>
        </p:nvSpPr>
        <p:spPr>
          <a:xfrm>
            <a:off x="2057400" y="36576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666880" y="32767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57400" y="2895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13" action="ppaction://hlinksldjump"/>
          </p:cNvPr>
          <p:cNvSpPr/>
          <p:nvPr/>
        </p:nvSpPr>
        <p:spPr>
          <a:xfrm>
            <a:off x="3809880" y="36576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19720" y="32767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9880" y="2895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rId14" action="ppaction://hlinksldjump"/>
          </p:cNvPr>
          <p:cNvSpPr/>
          <p:nvPr/>
        </p:nvSpPr>
        <p:spPr>
          <a:xfrm>
            <a:off x="5486400" y="36576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2767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86400" y="2895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rId15" action="ppaction://hlinksldjump"/>
          </p:cNvPr>
          <p:cNvSpPr/>
          <p:nvPr/>
        </p:nvSpPr>
        <p:spPr>
          <a:xfrm>
            <a:off x="7238880" y="36576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848720" y="32767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238880" y="2895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4952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45720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4191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057400" y="4952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666880" y="45720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057400" y="4191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09880" y="4952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19720" y="45720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09880" y="4191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86400" y="4952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95880" y="45720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4191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952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848720" y="45720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238880" y="4191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58672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54864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574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666880" y="58672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57400" y="54864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0988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419720" y="58672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09880" y="54864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864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95880" y="58672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86400" y="54864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848720" y="58672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238880" y="54864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71800" y="3049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229600" y="3049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00800" y="3049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01000" y="16002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3049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3049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16002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48120" y="16002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16002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324480" y="16002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2895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71800" y="2895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48320" y="2895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00800" y="2895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001000" y="2895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19320" y="41911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971800" y="41911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48320" y="41911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48520" y="41911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001000" y="41911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3000" y="54864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95480" y="54864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48320" y="54864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248520" y="54864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001000" y="54100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67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2000" fill="hold"/>
                                        <p:tgtEl>
                                          <p:spTgt spid="73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" dur="2000" fill="hold"/>
                                        <p:tgtEl>
                                          <p:spTgt spid="76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" dur="2000" fill="hold"/>
                                        <p:tgtEl>
                                          <p:spTgt spid="79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" dur="2000" fill="hold"/>
                                        <p:tgtEl>
                                          <p:spTgt spid="82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85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" dur="2000" fill="hold"/>
                                        <p:tgtEl>
                                          <p:spTgt spid="88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" dur="2000" fill="hold"/>
                                        <p:tgtEl>
                                          <p:spTgt spid="91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" dur="2000" fill="hold"/>
                                        <p:tgtEl>
                                          <p:spTgt spid="94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" dur="2000" fill="hold"/>
                                        <p:tgtEl>
                                          <p:spTgt spid="97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" dur="2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2000" fill="hold"/>
                                        <p:tgtEl>
                                          <p:spTgt spid="103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" dur="2000" fill="hold"/>
                                        <p:tgtEl>
                                          <p:spTgt spid="106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" dur="2000" fill="hold"/>
                                        <p:tgtEl>
                                          <p:spTgt spid="109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" dur="2000" fill="hold"/>
                                        <p:tgtEl>
                                          <p:spTgt spid="112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115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1" dur="2000" fill="hold"/>
                                        <p:tgtEl>
                                          <p:spTgt spid="118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6" dur="2000" fill="hold"/>
                                        <p:tgtEl>
                                          <p:spTgt spid="121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" dur="2000" fill="hold"/>
                                        <p:tgtEl>
                                          <p:spTgt spid="124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6" dur="2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1" dur="2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6" dur="2000" fill="hold"/>
                                        <p:tgtEl>
                                          <p:spTgt spid="133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1" dur="2000" fill="hold"/>
                                        <p:tgtEl>
                                          <p:spTgt spid="136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6" dur="2000" fill="hold"/>
                                        <p:tgtEl>
                                          <p:spTgt spid="139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693160" y="2743200"/>
            <a:ext cx="3481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Produc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WILD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CAR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777760" y="2590920"/>
            <a:ext cx="2780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Term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Variabl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Constan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Separated by a + or - sig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The result of a division proble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(DIVIDE!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The result of a multiplication problem (MULTIPLY!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Coefficien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Has “exactly” three term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Trinomia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To find the value of an express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Su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Binomia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Like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Term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Monomia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The result of an addition proble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(ADD!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A letter that represents an “unknown” valu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A number attached to a variabl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Simplif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Same variable with </a:t>
            </a:r>
            <a:r>
              <a:rPr b="1" i="1" lang="en-US" sz="6600" spc="-1" strike="noStrike">
                <a:solidFill>
                  <a:srgbClr val="000000"/>
                </a:solidFill>
                <a:latin typeface="Comic Sans MS"/>
              </a:rPr>
              <a:t>same</a:t>
            </a: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 exponen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Exactly 2 term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Reduce to lowest term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23880" y="2438280"/>
            <a:ext cx="6400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A number that stands alon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29080" y="2438280"/>
            <a:ext cx="3804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Evaluat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00:56:22Z</dcterms:created>
  <dc:creator>Karen Samis</dc:creator>
  <dc:description/>
  <dc:language>en-US</dc:language>
  <cp:lastModifiedBy>Karen Samis</cp:lastModifiedBy>
  <dcterms:modified xsi:type="dcterms:W3CDTF">2008-11-06T02:05:44Z</dcterms:modified>
  <cp:revision>12</cp:revision>
  <dc:subject/>
  <dc:title>Slide 1</dc:title>
</cp:coreProperties>
</file>