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F7B3-96F3-4DF3-BF4B-B661D264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4D8-0457-46F8-BD2A-8FC2A566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640-A2F0-485E-A476-BAAB8D0C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3CD4-203E-4314-BB96-DE629312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4B2-63D8-4217-AC02-74C69867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0CA2-6179-4449-83FC-86484B5B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57DB-88A9-4757-81FB-EC9AB14B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D80-3DF0-40CC-8D6A-FF0497C8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CB43-D2AC-43CC-A4C3-38076BFB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CFAF-BE5D-47AB-8B6D-A2CD3E72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B79-2209-431E-936D-089EBE42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26C-F58D-4564-818E-9D9BE487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B6E1-0158-475F-9480-A80047F09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slide11.xml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161748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3888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60020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89548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191120"/>
            <a:ext cx="161748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48640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30492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205740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3" action="ppaction://hlinksldjump"/>
          </p:cNvPr>
          <p:cNvSpPr/>
          <p:nvPr/>
        </p:nvSpPr>
        <p:spPr>
          <a:xfrm>
            <a:off x="380988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548640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5" action="ppaction://hlinksldjump"/>
          </p:cNvPr>
          <p:cNvSpPr/>
          <p:nvPr/>
        </p:nvSpPr>
        <p:spPr>
          <a:xfrm>
            <a:off x="723888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84872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6" action="ppaction://hlinksldjump"/>
          </p:cNvPr>
          <p:cNvSpPr/>
          <p:nvPr/>
        </p:nvSpPr>
        <p:spPr>
          <a:xfrm>
            <a:off x="30492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7" action="ppaction://hlinksldjump"/>
          </p:cNvPr>
          <p:cNvSpPr/>
          <p:nvPr/>
        </p:nvSpPr>
        <p:spPr>
          <a:xfrm>
            <a:off x="205740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8" action="ppaction://hlinksldjump"/>
          </p:cNvPr>
          <p:cNvSpPr/>
          <p:nvPr/>
        </p:nvSpPr>
        <p:spPr>
          <a:xfrm>
            <a:off x="380988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9" action="ppaction://hlinksldjump"/>
          </p:cNvPr>
          <p:cNvSpPr/>
          <p:nvPr/>
        </p:nvSpPr>
        <p:spPr>
          <a:xfrm>
            <a:off x="548640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0" action="ppaction://hlinksldjump"/>
          </p:cNvPr>
          <p:cNvSpPr/>
          <p:nvPr/>
        </p:nvSpPr>
        <p:spPr>
          <a:xfrm>
            <a:off x="723888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1" action="ppaction://hlinksldjump"/>
          </p:cNvPr>
          <p:cNvSpPr/>
          <p:nvPr/>
        </p:nvSpPr>
        <p:spPr>
          <a:xfrm>
            <a:off x="30492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205740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3" action="ppaction://hlinksldjump"/>
          </p:cNvPr>
          <p:cNvSpPr/>
          <p:nvPr/>
        </p:nvSpPr>
        <p:spPr>
          <a:xfrm>
            <a:off x="380988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14" action="ppaction://hlinksldjump"/>
          </p:cNvPr>
          <p:cNvSpPr/>
          <p:nvPr/>
        </p:nvSpPr>
        <p:spPr>
          <a:xfrm>
            <a:off x="548640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5" action="ppaction://hlinksldjump"/>
          </p:cNvPr>
          <p:cNvSpPr/>
          <p:nvPr/>
        </p:nvSpPr>
        <p:spPr>
          <a:xfrm>
            <a:off x="723888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38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4872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296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010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0100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01000" y="5410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93160" y="2743200"/>
            <a:ext cx="3481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Produc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WILD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AR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7760" y="2590920"/>
            <a:ext cx="278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Varia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onsta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eparated by a + or - sig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 division probl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(DIVIDE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 multiplication problem (MULTIPLY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oeffici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as “exactly” three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ri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o find the value of an express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Bi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Like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Mo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n addition probl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(ADD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letter that represents an “unknown” val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number attached to a varia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implif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ame variable with </a:t>
            </a: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same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 expon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Exactly 2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Reduce to lowest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2438280"/>
            <a:ext cx="640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number that stands alo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9080" y="2438280"/>
            <a:ext cx="380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Evalua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00:56:22Z</dcterms:created>
  <dc:creator>Karen Samis</dc:creator>
  <dc:description/>
  <dc:language>en-US</dc:language>
  <cp:lastModifiedBy>Karen Samis</cp:lastModifiedBy>
  <dcterms:modified xsi:type="dcterms:W3CDTF">2008-11-06T02:05:44Z</dcterms:modified>
  <cp:revision>12</cp:revision>
  <dc:subject/>
  <dc:title>Slide 1</dc:title>
</cp:coreProperties>
</file>