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dailydoub.wav" ContentType="audio/x-wav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3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© David A. Occh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" Target="slide19.xml"/><Relationship Id="rId4" Type="http://schemas.openxmlformats.org/officeDocument/2006/relationships/slide" Target="slide11.xml"/><Relationship Id="rId5" Type="http://schemas.openxmlformats.org/officeDocument/2006/relationships/slide" Target="slide21.xml"/><Relationship Id="rId6" Type="http://schemas.openxmlformats.org/officeDocument/2006/relationships/slide" Target="slide13.xml"/><Relationship Id="rId7" Type="http://schemas.openxmlformats.org/officeDocument/2006/relationships/slide" Target="slide23.xml"/><Relationship Id="rId8" Type="http://schemas.openxmlformats.org/officeDocument/2006/relationships/slide" Target="slide15.xml"/><Relationship Id="rId9" Type="http://schemas.openxmlformats.org/officeDocument/2006/relationships/slide" Target="slide25.xml"/><Relationship Id="rId10" Type="http://schemas.openxmlformats.org/officeDocument/2006/relationships/slide" Target="slide17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29.xml"/><Relationship Id="rId15" Type="http://schemas.openxmlformats.org/officeDocument/2006/relationships/slide" Target="slide35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6933960"/>
            <a:ext cx="14475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Welcome to Jeopard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-47520"/>
            <a:ext cx="9229680" cy="69055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-47520"/>
            <a:ext cx="9229680" cy="69055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82680" y="4525920"/>
            <a:ext cx="8381880" cy="532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2f2f2"/>
                </a:solidFill>
                <a:latin typeface="Arial"/>
              </a:rPr>
              <a:t>With your host, … your Math Teac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5560" y="6902280"/>
            <a:ext cx="203040" cy="2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1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72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59092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2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2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72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3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3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27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4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4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27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99072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5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5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72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1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2680" y="2730600"/>
            <a:ext cx="8381880" cy="9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"/>
              </a:rPr>
              <a:t>Category 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egory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1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27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2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2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272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4382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3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3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72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190512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4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4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7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5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2: $5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272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1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2680" y="2730600"/>
            <a:ext cx="8381880" cy="9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"/>
              </a:rPr>
              <a:t>Category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egory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1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72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2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2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272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3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3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72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144792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4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4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272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5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3: $5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27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1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2680" y="2730600"/>
            <a:ext cx="8381880" cy="9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"/>
              </a:rPr>
              <a:t>Category 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egory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1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272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114300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2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2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272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3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3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272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80880" y="1066680"/>
            <a:ext cx="838224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4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4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272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09480" y="1219320"/>
            <a:ext cx="800100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5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4: $5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272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1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2680" y="2730600"/>
            <a:ext cx="8381880" cy="9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"/>
              </a:rPr>
              <a:t>Category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egory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1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272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2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2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1272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3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3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27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4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4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272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5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5: $5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272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1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2680" y="2730600"/>
            <a:ext cx="8381880" cy="9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"/>
              </a:rPr>
              <a:t>Category 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egory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1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272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2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2133720"/>
            <a:ext cx="845820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200 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72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3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3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272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4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0880" y="2514600"/>
            <a:ext cx="838224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4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27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5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6: $500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1" action="ppaction://hlinksldjump"/>
          </p:cNvPr>
          <p:cNvSpPr/>
          <p:nvPr/>
        </p:nvSpPr>
        <p:spPr>
          <a:xfrm>
            <a:off x="7816680" y="6338880"/>
            <a:ext cx="1219320" cy="380880"/>
          </a:xfrm>
          <a:prstGeom prst="flowChartAlternateProcess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272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Daily Dou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52560" y="455760"/>
            <a:ext cx="6794280" cy="551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2680" y="2730600"/>
            <a:ext cx="8381880" cy="9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"/>
              </a:rPr>
              <a:t>Category 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egor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Final Jeopardy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2680" y="2730600"/>
            <a:ext cx="8381880" cy="97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"/>
              </a:rPr>
              <a:t>Final Categor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Final Categ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1272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04920" y="2498760"/>
            <a:ext cx="8381880" cy="5328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Final Jeopardy Qu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Final Jeopardy Que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69343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2498760"/>
            <a:ext cx="8381880" cy="67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f2f2"/>
                </a:solidFill>
                <a:latin typeface="Arial"/>
              </a:rPr>
              <a:t>Final Jeopardy Ans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Final Jeopardy Ans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380880" y="655308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272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6933960"/>
            <a:ext cx="14475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End Tit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229680" cy="690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25560" y="6902280"/>
            <a:ext cx="203040" cy="20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9680" y="390600"/>
            <a:ext cx="126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tegory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640" y="1700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95400" y="1695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3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280" y="273384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5400" y="27241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5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5640" y="3743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3743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7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640" y="47721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14480" y="4767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9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5781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5781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1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6857640"/>
            <a:ext cx="762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33600" y="1700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33600" y="272880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3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43320" y="37479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4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477216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  <a:hlinkClick r:id="rId15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43320" y="57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34000" y="1685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34000" y="271476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3360" y="3733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53080" y="477216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43360" y="57769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24680" y="1695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24680" y="272412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34040" y="37432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3760" y="47671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34040" y="57722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62880" y="16905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62880" y="2719440"/>
            <a:ext cx="10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2240" y="3738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1960" y="476244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2240" y="576756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399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tegory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390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tegory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399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tegory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67440" y="3906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tegory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39996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tegory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6626160"/>
            <a:ext cx="1447920" cy="2318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Final 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49876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$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05720" y="137124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ff"/>
                </a:solidFill>
                <a:latin typeface="Times New Roman"/>
              </a:rPr>
              <a:t>Cat 1: $100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Hoad</cp:lastModifiedBy>
  <dcterms:modified xsi:type="dcterms:W3CDTF">2008-11-02T22:35:20Z</dcterms:modified>
  <cp:revision>115</cp:revision>
  <dc:subject/>
  <dc:title>No Slide Title</dc:title>
</cp:coreProperties>
</file>