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F2B-AC1B-480B-968B-F1701ABE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FF8-7853-4570-AC20-4C772675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B54-835E-4413-8602-3CA0644F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9EA-3B7B-4DE2-9B60-4CA859F9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A697-6517-4339-B8F0-2208D735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A8E5-7E6B-4082-BECF-A2E64E7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F7E6-7D6D-449D-89B7-6AD3764F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1F13-3CD8-4860-B4F9-8E35103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3C3A-63C7-40FD-80CA-C20A2511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995C-FC8C-43B9-8A7A-F3E6D948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834C-FFB8-488D-B188-453B5598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932-86D5-48A2-8114-B3D11B36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C0EB-7BB0-48AB-BB90-62B7B5F5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254B-133D-42C9-82C8-6DFBFC49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FD59-5482-48E8-AB1C-E9C0A544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5E2B-EF7A-4381-BA32-B6AE3849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9CF3-A20D-4062-846A-8940E116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5D6-3CB0-40E1-8D9B-B872E391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7D0C-9FAF-4310-8027-F7A4777C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63F-6076-43EA-BC3B-CB448186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B83-B7AD-49C4-848C-30420CEE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E6F-F5A9-4871-A5F6-D45D274D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FB5-41CD-44E7-B565-1AEE1A48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38D-CD44-478F-8CE4-4CCA3EFC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6A54-707C-4E0D-A8D6-DD6D385B391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7206-B6C0-4A5D-90E5-F3C90982A1F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Hoad</cp:lastModifiedBy>
  <dcterms:modified xsi:type="dcterms:W3CDTF">2008-11-04T02:15:56Z</dcterms:modified>
  <cp:revision>26</cp:revision>
  <dc:subject/>
  <dc:title>Are You Smarter  Than a 5th Grader?</dc:title>
</cp:coreProperties>
</file>