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F2A-B39F-4EDD-BC86-D4CA6673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82E4-499A-483C-87BB-6DA6EBB5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B8C-7658-45A8-8D18-B40FE691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D48-2734-414A-8F37-0DEE8C88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35CA-C7DE-4A3C-A091-D16AEE68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3CE4-BDF6-4A46-968D-DCA1FADD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C7B1-298A-4789-896F-C67E4867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900B-4391-4CA3-B959-D7BD882B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EB34-D35D-43CF-9C4A-8BE1D238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8EAF-F3DD-4AA1-A28D-768DBD9F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7ED1-2BBA-4A13-838E-2C37FF7D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A9B-D29A-432C-9E46-9427E147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3F6D-5647-4DFB-B05F-F89899B8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F51B-6C62-42F3-964E-BF8B37AE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79DB-1FE8-4659-AB46-DAAE1A45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9B8F-6C76-4607-847D-0990093D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EC42-64BB-4606-8D41-FE57B6D6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456-0DE6-4D38-ADB3-AFD07E1E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C67-E12E-47BD-94D9-44BF045E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D17-6A67-4C0D-B669-02FD66DE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34BE-51B9-4741-9642-28FBD71B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D78-A4C2-4411-9977-7996025E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087-68A1-476F-8724-05A82CB1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25EC-37D0-4BD7-A69B-A95723DE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1332-C99C-440F-B677-5E8E06A2FC9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A933-06D8-4947-9EB2-45A71FABD6B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21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" Target="slide2.xml"/><Relationship Id="rId21" Type="http://schemas.openxmlformats.org/officeDocument/2006/relationships/slide" Target="slide2.xml"/><Relationship Id="rId22" Type="http://schemas.openxmlformats.org/officeDocument/2006/relationships/slide" Target="slide2.xml"/><Relationship Id="rId23" Type="http://schemas.openxmlformats.org/officeDocument/2006/relationships/slide" Target="slide2.xml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5334120"/>
            <a:ext cx="1219320" cy="685800"/>
          </a:xfrm>
          <a:custGeom>
            <a:avLst/>
            <a:gdLst>
              <a:gd name="textAreaLeft" fmla="*/ 98280 w 1219320"/>
              <a:gd name="textAreaRight" fmla="*/ 1121040 w 121932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5295" y="3100"/>
                </a:lnTo>
                <a:lnTo>
                  <a:pt x="3100" y="31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5295" y="18500"/>
                </a:lnTo>
                <a:lnTo>
                  <a:pt x="35295" y="31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95" y="185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334120"/>
            <a:ext cx="1219320" cy="685800"/>
          </a:xfrm>
          <a:custGeom>
            <a:avLst/>
            <a:gdLst>
              <a:gd name="textAreaLeft" fmla="*/ 98280 w 1219320"/>
              <a:gd name="textAreaRight" fmla="*/ 1121040 w 121932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5295" y="3100"/>
                </a:lnTo>
                <a:lnTo>
                  <a:pt x="3100" y="31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5295" y="18500"/>
                </a:lnTo>
                <a:lnTo>
                  <a:pt x="35295" y="31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95" y="185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5th Grade Topic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th Grade Topic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4th Grade Topic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rd Grade Topic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3rd Grade Top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2nd Grade Topic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nd Grade Topic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st Grade Topic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1st Grade Topic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2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Hoad</cp:lastModifiedBy>
  <dcterms:modified xsi:type="dcterms:W3CDTF">2008-11-04T02:15:56Z</dcterms:modified>
  <cp:revision>26</cp:revision>
  <dc:subject/>
  <dc:title>Are You Smarter  Than a 5th Grader?</dc:title>
</cp:coreProperties>
</file>