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5th%20Grader%20Short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48D9-619E-47FE-8EAF-384414048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5F80-1FEC-49F4-AC38-F942D31BB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180C-7EB9-4887-ADBA-1D161915E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B091-D42A-4896-8971-9692E49FF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55DD4-458C-4F2D-9E0C-BF495309E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2021D-D08B-4555-BAC4-B91D84AD0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9F42E-8C20-4C9A-8D53-FDE5EF898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190D9-46F8-4468-8415-DE385B0CD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02071-338B-4F34-812C-782110DC1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D2085-4A42-4E82-87F5-38CE01A3A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D4E34-2649-4B99-A444-57E3DC77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2BE4-2AE1-4874-A03F-9779CAB7A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9267E-73B0-45B1-A0E8-F5AD4762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82909-2CBD-4DCD-9399-FE62ECD8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8C327-0E23-4AD0-9F12-92805A1D3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126A3-216A-46E5-8615-69485704A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90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776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90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776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D1B8E-34C7-4652-AF7D-996EAFA49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7987-23E4-478B-95EF-B0EC3E5F6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9661-EB02-4068-90F5-7BB69ED1F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BFB8-4729-4EA9-A738-5B29717B1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9FA9-C26C-4DD8-8B3A-6FE01503C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21DE-8D7F-4F08-83EC-4A4D20A9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46E0-CA65-4043-8500-42B8CE68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9553-FDCC-4B54-A70A-D9A82B47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66000"/>
          </a:bodyPr>
          <a:p>
            <a:pPr marL="226080" indent="-226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490320" indent="-1886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754200" indent="-15084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055880" indent="-15084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357560" indent="-15084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357560" indent="-15084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357560" indent="-15084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56348-2152-4D60-B672-1C8520A4A32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E1462-0EBA-452C-9A4C-62454179F50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5th%20Grader%20Short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11.xml"/><Relationship Id="rId7" Type="http://schemas.openxmlformats.org/officeDocument/2006/relationships/slide" Target="slide13.xml"/><Relationship Id="rId8" Type="http://schemas.openxmlformats.org/officeDocument/2006/relationships/slide" Target="slide13.xml"/><Relationship Id="rId9" Type="http://schemas.openxmlformats.org/officeDocument/2006/relationships/slide" Target="slide15.xml"/><Relationship Id="rId10" Type="http://schemas.openxmlformats.org/officeDocument/2006/relationships/slide" Target="slide17.xml"/><Relationship Id="rId11" Type="http://schemas.openxmlformats.org/officeDocument/2006/relationships/slide" Target="slide19.xml"/><Relationship Id="rId12" Type="http://schemas.openxmlformats.org/officeDocument/2006/relationships/slide" Target="slide21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slide" Target="slide2.xml"/><Relationship Id="rId21" Type="http://schemas.openxmlformats.org/officeDocument/2006/relationships/slide" Target="slide2.xml"/><Relationship Id="rId22" Type="http://schemas.openxmlformats.org/officeDocument/2006/relationships/slide" Target="slide2.xml"/><Relationship Id="rId23" Type="http://schemas.openxmlformats.org/officeDocument/2006/relationships/slide" Target="slide2.xml"/><Relationship Id="rId2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5th%20Grader%20Short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re You Smarter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an a 5</a:t>
            </a:r>
            <a:r>
              <a:rPr b="0" lang="en-US" sz="4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Grader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"/>
          <p:cNvSpPr/>
          <p:nvPr/>
        </p:nvSpPr>
        <p:spPr>
          <a:xfrm>
            <a:off x="2971800" y="3733920"/>
            <a:ext cx="3048120" cy="1904760"/>
          </a:xfrm>
          <a:prstGeom prst="rect">
            <a:avLst/>
          </a:prstGeom>
          <a:solidFill>
            <a:srgbClr val="ffffff"/>
          </a:solidFill>
          <a:ln w="1522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581280" y="3886200"/>
            <a:ext cx="1905120" cy="14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Topic 4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Topic 5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Topic 5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Topic 6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Topic 6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4680" y="5334120"/>
            <a:ext cx="1219320" cy="685800"/>
          </a:xfrm>
          <a:custGeom>
            <a:avLst/>
            <a:gdLst>
              <a:gd name="textAreaLeft" fmla="*/ 98280 w 1219320"/>
              <a:gd name="textAreaRight" fmla="*/ 1121040 w 121932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95" h="21600">
                <a:moveTo>
                  <a:pt x="0" y="0"/>
                </a:moveTo>
                <a:lnTo>
                  <a:pt x="38395" y="0"/>
                </a:lnTo>
                <a:lnTo>
                  <a:pt x="38395" y="21600"/>
                </a:lnTo>
                <a:lnTo>
                  <a:pt x="0" y="21600"/>
                </a:lnTo>
                <a:close/>
              </a:path>
              <a:path fill="lightenLess" w="38395" h="21600">
                <a:moveTo>
                  <a:pt x="0" y="0"/>
                </a:moveTo>
                <a:lnTo>
                  <a:pt x="38395" y="0"/>
                </a:lnTo>
                <a:lnTo>
                  <a:pt x="35295" y="3100"/>
                </a:lnTo>
                <a:lnTo>
                  <a:pt x="3100" y="3100"/>
                </a:lnTo>
                <a:close/>
              </a:path>
              <a:path fill="darken" w="38395" h="21600">
                <a:moveTo>
                  <a:pt x="38395" y="0"/>
                </a:moveTo>
                <a:lnTo>
                  <a:pt x="38395" y="21600"/>
                </a:lnTo>
                <a:lnTo>
                  <a:pt x="35295" y="18500"/>
                </a:lnTo>
                <a:lnTo>
                  <a:pt x="35295" y="3100"/>
                </a:lnTo>
                <a:close/>
              </a:path>
              <a:path fill="darkenLess" w="38395" h="21600">
                <a:moveTo>
                  <a:pt x="38395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95" y="18500"/>
                </a:lnTo>
                <a:close/>
              </a:path>
              <a:path fill="lighten" w="38395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Topic 7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Topic 7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924680" y="5334120"/>
            <a:ext cx="1219320" cy="685800"/>
          </a:xfrm>
          <a:custGeom>
            <a:avLst/>
            <a:gdLst>
              <a:gd name="textAreaLeft" fmla="*/ 98280 w 1219320"/>
              <a:gd name="textAreaRight" fmla="*/ 1121040 w 121932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95" h="21600">
                <a:moveTo>
                  <a:pt x="0" y="0"/>
                </a:moveTo>
                <a:lnTo>
                  <a:pt x="38395" y="0"/>
                </a:lnTo>
                <a:lnTo>
                  <a:pt x="38395" y="21600"/>
                </a:lnTo>
                <a:lnTo>
                  <a:pt x="0" y="21600"/>
                </a:lnTo>
                <a:close/>
              </a:path>
              <a:path fill="lightenLess" w="38395" h="21600">
                <a:moveTo>
                  <a:pt x="0" y="0"/>
                </a:moveTo>
                <a:lnTo>
                  <a:pt x="38395" y="0"/>
                </a:lnTo>
                <a:lnTo>
                  <a:pt x="35295" y="3100"/>
                </a:lnTo>
                <a:lnTo>
                  <a:pt x="3100" y="3100"/>
                </a:lnTo>
                <a:close/>
              </a:path>
              <a:path fill="darken" w="38395" h="21600">
                <a:moveTo>
                  <a:pt x="38395" y="0"/>
                </a:moveTo>
                <a:lnTo>
                  <a:pt x="38395" y="21600"/>
                </a:lnTo>
                <a:lnTo>
                  <a:pt x="35295" y="18500"/>
                </a:lnTo>
                <a:lnTo>
                  <a:pt x="35295" y="3100"/>
                </a:lnTo>
                <a:close/>
              </a:path>
              <a:path fill="darkenLess" w="38395" h="21600">
                <a:moveTo>
                  <a:pt x="38395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95" y="18500"/>
                </a:lnTo>
                <a:close/>
              </a:path>
              <a:path fill="lighten" w="38395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Topic 8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Topic 8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Topic 9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500"/>
            </a:gs>
            <a:gs pos="50000">
              <a:srgbClr val="408000"/>
            </a:gs>
            <a:gs pos="100000">
              <a:srgbClr val="020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re You Smarter Than a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Grader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"/>
          <p:cNvSpPr/>
          <p:nvPr/>
        </p:nvSpPr>
        <p:spPr>
          <a:xfrm>
            <a:off x="76320" y="228600"/>
            <a:ext cx="1600200" cy="457200"/>
          </a:xfrm>
          <a:prstGeom prst="rect">
            <a:avLst/>
          </a:prstGeom>
          <a:solidFill>
            <a:srgbClr val="00008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" action="ppaction://hlinksldjump"/>
              </a:rPr>
              <a:t>1,0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167652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" action="ppaction://hlinksldjump"/>
              </a:rPr>
              <a:t>5th Grade Topic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10080" y="167652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" action="ppaction://hlinksldjump"/>
              </a:rPr>
              <a:t>5th Grade Topic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76520" y="2647800"/>
            <a:ext cx="358128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4" action="ppaction://hlinksldjump"/>
              </a:rPr>
              <a:t>4th Grade Topic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10080" y="2647800"/>
            <a:ext cx="358164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5" action="ppaction://hlinksldjump"/>
              </a:rPr>
              <a:t>4th Grade Topic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3619440"/>
            <a:ext cx="358128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0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6" action="ppaction://hlinksldjump"/>
              </a:rPr>
              <a:t>3rd Grade Topic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10080" y="3619440"/>
            <a:ext cx="358164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7" action="ppaction://hlinksldjump"/>
              </a:rPr>
              <a:t>3rd Grade Topic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8" action="ppaction://hlinksldjump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459108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8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9" action="ppaction://hlinksldjump"/>
              </a:rPr>
              <a:t>2nd Grade Topic 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10080" y="459108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0" action="ppaction://hlinksldjump"/>
              </a:rPr>
              <a:t>2nd Grade Topic 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76520" y="556272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1" action="ppaction://hlinksldjump"/>
              </a:rPr>
              <a:t>1st Grade Topic 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10080" y="556272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2" action="ppaction://hlinksldjump"/>
              </a:rPr>
              <a:t>1st Grade Topic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5240" y="80028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3" action="ppaction://hlinksldjump"/>
              </a:rPr>
              <a:t>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138744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4" action="ppaction://hlinksldjump"/>
              </a:rPr>
              <a:t>3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197316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5" action="ppaction://hlinksldjump"/>
              </a:rPr>
              <a:t>17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256068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6" action="ppaction://hlinksldjump"/>
              </a:rPr>
              <a:t>1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314784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7" action="ppaction://hlinksldjump"/>
              </a:rPr>
              <a:t>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373392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8" action="ppaction://hlinksldjump"/>
              </a:rPr>
              <a:t>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432108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9" action="ppaction://hlinksldjump"/>
              </a:rPr>
              <a:t>1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490680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0" action="ppaction://hlinksldjump"/>
              </a:rPr>
              <a:t>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549432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1" action="ppaction://hlinksldjump"/>
              </a:rPr>
              <a:t>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rId22" action="ppaction://hlinksldjump"/>
          </p:cNvPr>
          <p:cNvSpPr/>
          <p:nvPr/>
        </p:nvSpPr>
        <p:spPr>
          <a:xfrm>
            <a:off x="152280" y="608184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3" action="ppaction://hlinksldjump"/>
              </a:rPr>
              <a:t>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Topic 9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Topic 10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Topic 10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Million Dollar Questio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opic 11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,000,000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,000,000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anks for Playing!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3733920"/>
            <a:ext cx="3048120" cy="1904760"/>
          </a:xfrm>
          <a:prstGeom prst="rect">
            <a:avLst/>
          </a:prstGeom>
          <a:solidFill>
            <a:srgbClr val="ffffff"/>
          </a:solidFill>
          <a:ln w="1522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3581280" y="3886200"/>
            <a:ext cx="1905120" cy="14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Topic 1 Question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Topic 1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">
            <a:hlinkClick r:id="rId2" action="ppaction://hlinksldjump"/>
          </p:cNvPr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Topic 2 Question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Topic 2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>
            <a:hlinkClick r:id="rId3" action="ppaction://hlinksldjump"/>
          </p:cNvPr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Topic 3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Topic 3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Topic 4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0T20:28:24Z</dcterms:created>
  <dc:creator>Gary Bodenschatz</dc:creator>
  <dc:description/>
  <dc:language>en-US</dc:language>
  <cp:lastModifiedBy>Hoad</cp:lastModifiedBy>
  <dcterms:modified xsi:type="dcterms:W3CDTF">2008-11-04T02:15:56Z</dcterms:modified>
  <cp:revision>26</cp:revision>
  <dc:subject/>
  <dc:title>Are You Smarter  Than a 5th Grader?</dc:title>
</cp:coreProperties>
</file>