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86A-1F6D-4296-B01F-1E593186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1A8-305C-4117-8F69-AB0F6BCB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9F7-4740-4860-9EB6-F8D69249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C74-3D65-4B15-BD55-57A5615A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63B2-C00D-418F-A5B6-78A287F3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FACB-232B-46CB-BBD2-2574C205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AF99-4024-4714-9A07-BE9175BF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2731-7794-4CDD-8C58-CEA13963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DF61-29A8-4FEE-8D90-B1003396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EAF7-B8C6-42C6-9843-6E655A0C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7CF8-EDA7-43A2-BC60-60E2E4F7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65C2-3B1A-4C8D-B0B1-87349D1F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E49E-1B0C-42F6-A2BC-336AA827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A233-C8FB-4DF0-96EC-0C9F0888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9704-A624-4604-8EE1-92E857DD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0EA5-1EB2-418A-A08C-5966C885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B60F-F016-4472-B93C-3A95C97E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93D-6ED3-4D9E-AAD1-6399E753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9C1F-CDA8-44FA-8FB9-794D4F02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817-D4CA-4056-8E0F-4A146CDE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3F36-244E-4FE3-AEAD-9CF703FC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78F-BF35-4297-B495-CDC9FC1D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475A-376A-4995-A870-EE8B1029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07D-1599-49B5-AA6C-6EE0A277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9100-02BC-463E-ABB4-0ED882E97DF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692D-D1C5-4C51-B98D-53D309CF095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21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slide" Target="slide2.xml"/><Relationship Id="rId21" Type="http://schemas.openxmlformats.org/officeDocument/2006/relationships/slide" Target="slide2.xml"/><Relationship Id="rId22" Type="http://schemas.openxmlformats.org/officeDocument/2006/relationships/slide" Target="slide2.xml"/><Relationship Id="rId23" Type="http://schemas.openxmlformats.org/officeDocument/2006/relationships/slide" Target="slide2.xml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4680" y="5334120"/>
            <a:ext cx="1219320" cy="685800"/>
          </a:xfrm>
          <a:custGeom>
            <a:avLst/>
            <a:gdLst>
              <a:gd name="textAreaLeft" fmla="*/ 98280 w 1219320"/>
              <a:gd name="textAreaRight" fmla="*/ 1121040 w 121932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5295" y="3100"/>
                </a:lnTo>
                <a:lnTo>
                  <a:pt x="3100" y="31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5295" y="18500"/>
                </a:lnTo>
                <a:lnTo>
                  <a:pt x="35295" y="31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95" y="185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334120"/>
            <a:ext cx="1219320" cy="685800"/>
          </a:xfrm>
          <a:custGeom>
            <a:avLst/>
            <a:gdLst>
              <a:gd name="textAreaLeft" fmla="*/ 98280 w 1219320"/>
              <a:gd name="textAreaRight" fmla="*/ 1121040 w 121932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5295" y="3100"/>
                </a:lnTo>
                <a:lnTo>
                  <a:pt x="3100" y="31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5295" y="18500"/>
                </a:lnTo>
                <a:lnTo>
                  <a:pt x="35295" y="31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95" y="185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Topic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5th Grade Topic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4th Grade Topic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4th Grade Topic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rd Grade Topic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3rd Grade Top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2nd Grade Topic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nd Grade Topic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st Grade Topic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1st Grade Topic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2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Hoad</cp:lastModifiedBy>
  <dcterms:modified xsi:type="dcterms:W3CDTF">2008-11-04T02:15:56Z</dcterms:modified>
  <cp:revision>26</cp:revision>
  <dc:subject/>
  <dc:title>Are You Smarter  Than a 5th Grader?</dc:title>
</cp:coreProperties>
</file>