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B00-5850-4760-9069-B383468E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942C-68E5-4F99-835A-37B2F21F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C11F-508C-4473-BC79-22AFD03C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63B5-EA6F-47C4-BA04-F8498708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2675-B93C-4262-B387-4FD7D0B5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E18A-605B-4F34-A846-00E3E36A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BA65-06A0-42BA-B399-368D955E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493F-F3A6-4D1F-A115-B9C5AB35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384B-8B44-490D-8D56-080653B7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3D62-8764-417D-863C-099D8D71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47B1-1DA7-40EB-893C-361E0F42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8D6-3904-4D73-A603-DDE5C28A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F766-7CF5-4492-8E07-F38FEFE6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73A7-F74A-49EE-851F-DD1633F6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15C6-537E-4D74-A303-B0AB4961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4127-92DB-4F55-B68D-8319DBE8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C881-0CAD-44C5-80DE-13DD0D00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62A1-D02C-4121-BCD4-3C649C1D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695-ED7A-4954-94A2-BBA61CF1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55BE-DF1B-444A-B07C-52905FDF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446-A08A-4AD2-AAB0-15F59438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4AF-4E4B-4A96-A913-300F2A75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1CF9-34D3-4546-AC6D-5B6A5BF5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6AE-9AB4-42DD-9A69-B0BE5A6D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2E9D-009D-49C1-BD3B-266B48FE41C1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F9A3-56CB-4159-8DE4-D554882FF43F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538640"/>
                <a:gridCol w="1538640"/>
                <a:gridCol w="1538280"/>
                <a:gridCol w="1538640"/>
                <a:gridCol w="1538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Karen Samis</cp:lastModifiedBy>
  <dcterms:modified xsi:type="dcterms:W3CDTF">2008-11-04T03:08:25Z</dcterms:modified>
  <cp:revision>3</cp:revision>
  <dc:subject/>
  <dc:title>Twenty Questions </dc:title>
</cp:coreProperties>
</file>