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loney-close.wav" ContentType="audio/x-wav"/>
  <Override PartName="/ppt/media/carcrsh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1F92-0FAC-41B2-B271-9981C27D7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581D-DD4F-4F2B-AB44-4FB28C75D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E217-DB4C-438B-83C1-40D8FA858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3400-4A9E-4C73-A01F-04DB99D67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B350B-9D6D-47DE-844D-DFFFE1883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65735-F8AB-4403-9662-B8FFF286F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6DE5B-12A2-4832-98B3-5DE9EC09D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91842-2C9D-421D-B83A-78B2BA048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C0C3F-24AE-4255-A4B5-CE461BB55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7A816-8A09-4126-B157-0719B3BA5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81733-7C34-432C-82DF-0433ADD9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A2FC-E148-4767-B8CF-0937F61E5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E5883-4A8A-4714-9444-2D7A3FB77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17984-051F-413C-BB16-CBF9704F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CD1B4-8D71-4F9A-9604-023F62830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9111C-E97F-4733-B3BC-27813D97D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D8601-58D7-4CAC-B370-3AAAFE096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9AEA-E7EA-4AA1-A09E-38C91E962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FF99-51BF-497E-9A84-0E728807C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4387-C862-40AE-882A-2A0699AE9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1E46-EDAF-42FF-AB89-8E95DA0E9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934A-6067-40E5-B4B1-36B81EFEC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07E4-FEC4-4C2A-B91E-7CB2108AD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3CE3-A336-46C6-AAA8-D7F545491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F3AFB-A827-49BF-923B-6D362374A771}" type="slidenum">
              <a:rPr b="1" lang="en-US" sz="26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23513-D492-43EC-8E23-C6EEE84F821D}" type="slidenum">
              <a:rPr b="1" lang="en-US" sz="26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roll.wav" TargetMode="External"/><Relationship Id="rId2" Type="http://schemas.openxmlformats.org/officeDocument/2006/relationships/audio" Target="../media/loney-close.wav"/><Relationship Id="rId3" Type="http://schemas.openxmlformats.org/officeDocument/2006/relationships/audio" Target="../media/carcrsh.wav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wenty Questions 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jec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nextslide"/>
            <a:hlinkClick r:id="rId1"/>
          </p:cNvPr>
          <p:cNvSpPr/>
          <p:nvPr/>
        </p:nvSpPr>
        <p:spPr>
          <a:xfrm>
            <a:off x="7924680" y="601992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3794"/>
                </a:moveTo>
                <a:lnTo>
                  <a:pt x="22606" y="10800"/>
                </a:lnTo>
                <a:lnTo>
                  <a:pt x="8593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2" name="loney-clos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cr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8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9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0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1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2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3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4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5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6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7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wenty Quest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2362320"/>
          <a:ext cx="7692840" cy="3724200"/>
        </p:xfrm>
        <a:graphic>
          <a:graphicData uri="http://schemas.openxmlformats.org/drawingml/2006/table">
            <a:tbl>
              <a:tblPr/>
              <a:tblGrid>
                <a:gridCol w="1538640"/>
                <a:gridCol w="1538640"/>
                <a:gridCol w="1538280"/>
                <a:gridCol w="1538640"/>
                <a:gridCol w="1538640"/>
              </a:tblGrid>
              <a:tr h="93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6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7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8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9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1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8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9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0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5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6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7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5:03:25Z</dcterms:created>
  <dc:creator>Connie Campbell</dc:creator>
  <dc:description/>
  <dc:language>en-US</dc:language>
  <cp:lastModifiedBy>Karen Samis</cp:lastModifiedBy>
  <dcterms:modified xsi:type="dcterms:W3CDTF">2008-11-04T03:08:25Z</dcterms:modified>
  <cp:revision>3</cp:revision>
  <dc:subject/>
  <dc:title>Twenty Questions </dc:title>
</cp:coreProperties>
</file>