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7F7-483C-4E72-914C-537E9650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F38-D452-4395-A75F-F4998335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8FF8-2937-491A-8871-8DAA8194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639-F674-4546-866E-D1CFB942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550D-B36D-4FBD-A6A8-7F21F1E7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6925-4D50-41AC-954A-18D3ABCE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6E3C-45FA-44B8-98B6-8C42966C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CC73-1423-48A7-A80E-E5CD00D1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BF7D-6A3A-473F-845A-F04ACB6C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ED19-BADB-4BB8-9F91-C334FFB5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091F-080C-4BCC-8D59-3419705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895-C81D-4FB8-9FAA-3660BC8F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CDA-06CC-4A36-BD26-546B99F9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46A0-953F-4706-8693-F98F60C0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2F90-D521-41EE-8272-C600F17F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6E44-017B-4E4E-BDAC-A4D2E53F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30AC-C6E8-42B7-B343-8D1FD177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FB1-E989-44B9-8226-13FFC4E2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618-57C5-4456-9D7B-8D1F1B32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38F8-6842-4A48-9EB3-95A2135B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4A6-BCF2-4610-91E9-49710C7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269B-743A-4593-9712-03B469A8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BEF-B403-47AB-84B8-5AFB858A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D89-6068-43AC-9C47-AF33342E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E689-869C-457E-8BB3-A30D497FA944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80BF-EB4A-4E4E-99E2-A5263E66A882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Karen Samis</cp:lastModifiedBy>
  <dcterms:modified xsi:type="dcterms:W3CDTF">2008-11-04T03:08:25Z</dcterms:modified>
  <cp:revision>3</cp:revision>
  <dc:subject/>
  <dc:title>Twenty Questions </dc:title>
</cp:coreProperties>
</file>