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CC8-44DE-40F9-9D7F-D23162B8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7D8-1CA4-42B0-A615-B8E73FD6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921-E5EE-40E7-8E0A-762A8BE9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CF6-BA73-4A0E-9440-BCA1D39E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D4AE-F03F-45C1-A00D-023F8691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5860-BC40-41DB-8EC4-E53A41B3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F92B-B701-4073-BA13-B567C5B1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A2C9-1728-4AAA-AF78-19DF89A9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E9CF-4D9A-497C-AE46-4B701410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31B2-3703-493A-A6D3-B3417630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D4F3-DA02-4EE7-966A-70CCBC35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091-9211-4A43-890A-C0D178C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DEC0-6145-42C4-AE30-C5D158DD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6F9C-A28B-4B22-A1FB-F7852B7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2B74-7063-411B-AA1A-3D30EEF5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DD6C-0314-4C1C-BB94-66F2C204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026B-EF2E-425C-B43F-3CD85A50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878-5B7A-4552-95E1-1FC0064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7DF-D6E2-4689-995E-76216BF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D1A-A25D-4DDE-8EAF-216EEBC8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080-13F4-4D88-BAD4-C70729A0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3F4-22BA-4748-B086-D2D418B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957-71E0-4D32-83CA-79AB534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7D5-CCB5-4F94-AE51-DAB29EE0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0F39-C1F1-410B-85DF-4764B0D731D7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9B05-B7B3-4A7B-904A-6470A56A8EC2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Karen Samis</cp:lastModifiedBy>
  <dcterms:modified xsi:type="dcterms:W3CDTF">2008-11-04T03:08:25Z</dcterms:modified>
  <cp:revision>3</cp:revision>
  <dc:subject/>
  <dc:title>Twenty Questions </dc:title>
</cp:coreProperties>
</file>