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876-C985-4845-AFE4-9BE2F07F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7C1A-473D-4A14-B764-8766AE25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3BF-0B61-4D2A-B6A7-9623D4BE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D094-1ACB-44D2-9D19-AD678937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6079-A807-40DB-8863-CBAD749D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647C-50B1-49D3-A8A9-DA3392D9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24AB-FBE7-4726-9173-BCC206BD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B09C-4EE3-4D39-94E5-E550B5E2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353C-8832-4EDF-83A6-FE5E6A39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F069-72BC-42ED-BFE1-1A12F45A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CCC9-1A40-430B-8779-92EAB308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ABB-4A70-4903-B123-234754C4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A898-58F0-4EC6-A680-122A963A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6B24-D143-4CA8-86C8-BFA3C521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E929-55C8-4FA1-83AC-2186E825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3EB6-0301-4A58-9875-0140DC72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0A73-7D05-410B-BF9C-A4B90347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3D8-D16F-4BF0-A5DA-2584802D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936-3510-4038-A6C7-82491F08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54D-75E2-4537-9939-A934C093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7DA-8A92-44B5-A60A-0918A13C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4A5-8BAB-47B3-BA08-0A5FCA2C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E44-4DBD-4A2B-A0F1-CA77A1C4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99D-82B3-4C3B-A040-09FBB2A2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1A2D-A15E-4FDD-9018-5E3A6AF7D40B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D838-8855-4FAC-A1B7-D1CC76B5F6BA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Karen Samis</cp:lastModifiedBy>
  <dcterms:modified xsi:type="dcterms:W3CDTF">2008-11-04T03:08:25Z</dcterms:modified>
  <cp:revision>3</cp:revision>
  <dc:subject/>
  <dc:title>Twenty Questions </dc:title>
</cp:coreProperties>
</file>