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717-20BA-4B28-9EF6-33DB68E8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E73-53BB-4FDE-A56D-C1850DC7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D11-344E-40D6-B8DE-CD44398C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3E1-28DE-4BF1-B69F-2F34451E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8CB-453F-492D-B43B-D6E41D3D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4F8-8A0E-492E-B79A-A278160F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A93-FB71-48FA-8805-AF3E1769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89C-9577-466A-8B4A-B627E477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7FB-4087-472A-9545-6C7C8372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66C-1CBC-403E-828C-04E4C231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E2F-F5B1-4D98-BA7D-0B2727AD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0C6-69A3-4DEC-8451-A0C8B3D5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1B20-AA82-4128-A924-C6DDEA36D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o will Surviv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expression is not a monomial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(-y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m-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2x(-3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is equivalent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(3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• 8- 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÷ 2)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.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b. 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. 1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d.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water level of a local lake is normally 0 feet above sea level. In a flood, the water level rose 4 feet above normal. A month later, the water level had gone down 5 feet. Which integer best represents the water level at this tim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 -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. -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. 4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e the equation for x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6x – 4x + 57 = 87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7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-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2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hadijah and Autumn went to lunch. Their check came to $42. They want to leave a 15% tip for their waiter. How much will the total be, including tip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$6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$43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$48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$57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the quotient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2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nd -7x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roduct of (3x – 1) and (x + 4) i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4x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value of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ivided by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s x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solution is correct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5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a +5) – (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2a -5)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 -4a +6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0 +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 + 10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termine the next three terms of the patt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, 7, 11, 17, 25, 35,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47, 59, 7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7, 61, 71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47, 61, 7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47, 59, 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(3x-5) + 2(x-3) can be simplified to…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11x +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8x-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11x – 2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8x -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submarine started at a depth of 150 feet below sea level and descended 355 feet. What is the new depth of the submarine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205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505 feet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0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370 f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the slope of the 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y = -3x + 9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3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-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specific type of polynomial is 3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 2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monomi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binomial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consta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tr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mic Sans MS"/>
              </a:rPr>
              <a:t>  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Find the sum of (7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5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  and  (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- 2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.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a. 1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b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7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c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d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  22 is 20% of 110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n + 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n-1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n-1)(n-1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n-2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n+2)(n-1)</a:t>
            </a: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coefficient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expression x + 5 is...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x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2x + 18 in factored form is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(x²+2x +18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6(x²+2x +3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6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22% of 175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38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8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795.4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9.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³•3 simplifies to 9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x²-22x + 2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x -1)(x-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x+1)(x+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x+3)(x-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(x-3)(x-7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divide a polynomial by a monomial you must divide the base and add the expon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5(x+2) = 40, what is the value of x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0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0:23:47Z</dcterms:created>
  <dc:creator>Karen Samis</dc:creator>
  <dc:description/>
  <dc:language>en-US</dc:language>
  <cp:lastModifiedBy>Karen Samis</cp:lastModifiedBy>
  <dcterms:modified xsi:type="dcterms:W3CDTF">2008-11-04T02:18:45Z</dcterms:modified>
  <cp:revision>19</cp:revision>
  <dc:subject/>
  <dc:title>The expression  3(3x-5) + 2(x-3) can be simplified to….</dc:title>
</cp:coreProperties>
</file>