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B6B-E3EF-43D5-AE56-4AD1E36D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499-FD98-44A1-8771-6720FB88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639-5186-4B67-AA30-6AC37A4B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AC4-5F74-4639-AB82-2B053D49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B736-5986-4410-BFC9-68C32959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4FDC-103E-4D83-8C20-80A7175D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8969-2F4E-495C-BB85-8181841E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1380-45E7-4DBD-BE58-B80AA1F2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3DA4-028C-47E2-BE20-2DE4E642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3078-E674-4493-B8E6-B2151DC7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5F9F-1A29-4DD4-BE03-A804FB11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A6A-56CC-4D42-B060-43B159BA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A9EF-2951-4C40-8687-AB64E3E3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51ED-BA07-4E59-9F68-A2B2E0F6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56D1-205F-4B78-ADCE-8598AF1D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3D85-2B2E-4BD2-BA41-D2F33024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01C2-1FC0-41F3-9FAD-D8E95CF7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C5B-AC1A-461F-816A-427487C6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61F-9AA3-40D4-AAE9-6A976DC5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A64-B857-4F11-A326-27B8427A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14F-DFBD-4B84-95C1-3344E1D3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291-DB63-4372-904D-27AD9E99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CD3-9432-4205-99E8-9EAB677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6A5-6E0C-415B-AD0F-D15B9F09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A445-D05E-4F66-ACA1-EDBDAD550C8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7B6A-9E6B-4925-AE40-7DFF6203E3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Hoad</cp:lastModifiedBy>
  <dcterms:modified xsi:type="dcterms:W3CDTF">2008-11-04T02:15:56Z</dcterms:modified>
  <cp:revision>26</cp:revision>
  <dc:subject/>
  <dc:title>Are You Smarter  Than a 5th Grader?</dc:title>
</cp:coreProperties>
</file>