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48B5-954E-45AF-847E-5A6E42BC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DA2-C414-452E-99F3-57213A33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40A5-441C-47CB-9C65-33FAADB1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CFB-478C-4E2C-AEF1-E2DAE7DE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65E6-B803-4134-B65E-30E94CB9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6D45B-DBDC-4DCC-9CB5-5E0D24E2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0499-8567-40DC-B206-A4F8CD3C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9DA1-F685-47C0-BC2E-A997B7C5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2A2E-F58B-4819-B453-C7E062C3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1E3D-65E3-47D3-8E01-170E8896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FCF1-4535-47FF-8438-B92CF690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D39-F05C-467C-BDCF-BC39F040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DEF5-EF90-475C-813A-369CDBE1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59FD-E4D5-4F65-BF5F-AE0A5BE9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4162-4965-4480-8A6D-C75D58D8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0CA0-D66F-4DCC-916F-AC5B30D0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0D15-A904-4B77-86DF-8E6CE926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04A-38AA-42BA-B467-65AE8AE9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11C-7FCC-4098-9675-BDEA44D7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022-4A84-4C4C-BA4C-CCECADA8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021-DBA3-401B-9DE7-72E71FA9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3F4-508C-42BA-96E9-FC4D83F1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04D-202D-4B16-B1BB-E522DA89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82E-1542-40CE-9FFF-2D49ADA9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0437-F6BD-4105-8F29-E49CA4270B1C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E399-13CA-4E2B-ABBB-8FED1B8B0B94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Karen Samis</cp:lastModifiedBy>
  <dcterms:modified xsi:type="dcterms:W3CDTF">2008-11-04T03:08:25Z</dcterms:modified>
  <cp:revision>3</cp:revision>
  <dc:subject/>
  <dc:title>Twenty Questions </dc:title>
</cp:coreProperties>
</file>