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oney-close.wav" ContentType="audio/x-wav"/>
  <Override PartName="/ppt/media/carcr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E85D-663C-440D-A4CF-A50E2398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6973-87FC-4CAA-82FF-3971401A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2100-BDF4-4220-AD22-3341996E0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A20A-7656-4C8E-8B82-133E0668C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B694-BEB8-4EAE-8550-E2F47059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376A-67D8-45CC-B17F-8F23A400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084F-F625-4412-B4B1-B3B24203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1837-39B4-46B2-B81A-CAB82B9F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E742-5E8F-4A96-8B76-EF697C8D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8D09-BAF9-4DA8-90B9-60E39E49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7FEB-8ED4-48E4-B023-A8AAC2EC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39F9-3371-4174-A5E4-3DB48F9C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DDA4-BA2C-430F-9BCD-C8DB98BA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4AF0-A047-4580-A17A-9686E0EB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DBBB-ED9E-4E3D-805C-F13706D6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1AD7-200A-43E8-9621-FFEE84422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E166-C550-4426-BA98-7995209AD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8EE9-9BA2-412D-8E1E-F55962BF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93C2-DDF7-412F-8C8C-E9D839FF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4D0D-5CF4-4BF3-AE66-D96392BA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F720-F561-43DB-8E89-E798B58C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4F48-F3D3-4316-A13F-336BAE5B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C84C-2CCC-47DF-A207-082D8D10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A94B-5B5C-40E9-90A2-E4AE84A0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9C8E-81F1-4655-A8A0-C1C39342E94C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6BD4-65AB-4692-8833-4BC8C6E0AE91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loney-close.wav"/><Relationship Id="rId3" Type="http://schemas.openxmlformats.org/officeDocument/2006/relationships/audio" Target="../media/carcrsh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wenty Questions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60199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loney-clo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cr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1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2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enty Ques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2362320"/>
          <a:ext cx="7692840" cy="3724200"/>
        </p:xfrm>
        <a:graphic>
          <a:graphicData uri="http://schemas.openxmlformats.org/drawingml/2006/table">
            <a:tbl>
              <a:tblPr/>
              <a:tblGrid>
                <a:gridCol w="1538640"/>
                <a:gridCol w="1538640"/>
                <a:gridCol w="1538280"/>
                <a:gridCol w="1538640"/>
                <a:gridCol w="1538640"/>
              </a:tblGrid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5:03:25Z</dcterms:created>
  <dc:creator>Connie Campbell</dc:creator>
  <dc:description/>
  <dc:language>en-US</dc:language>
  <cp:lastModifiedBy>Karen Samis</cp:lastModifiedBy>
  <dcterms:modified xsi:type="dcterms:W3CDTF">2008-11-04T03:08:25Z</dcterms:modified>
  <cp:revision>3</cp:revision>
  <dc:subject/>
  <dc:title>Twenty Questions </dc:title>
</cp:coreProperties>
</file>